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05258D36-7851-46FF-8AC7-2B753D4492A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5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457200" y="5334120"/>
          <a:ext cx="129528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4120"/>
                    <a:ext cx="1295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088400" cy="99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812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ndonesia Internet Exchang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76280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7464600" cy="3733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ly Graph ( 30 Minute averag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ix-s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b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52480" y="3733920"/>
            <a:ext cx="4762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2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304812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52680" y="2895480"/>
            <a:ext cx="175284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8520" y="39625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29040" y="3733920"/>
            <a:ext cx="769680" cy="45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048120" y="44956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800600" y="449568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3560" y="1523880"/>
            <a:ext cx="504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1981080"/>
            <a:ext cx="0" cy="4572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80060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kom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800600"/>
            <a:ext cx="838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7784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5948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/5/97 First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/7/97 IIX whit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/9/97 IIX is up with 6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/9/97 IIX-Ind is up with 1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/9/97 IIX Diagnostic home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X Looking g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TG interface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/10/97 BGP peer up wit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11/97 ITB join IIX throug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/12/97 128 Kbps link GCC&lt;-&gt; SMG2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2/98 Using RtConfig ( RAToolSet ) to configure I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lsa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cific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net.net.id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nk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erce.net.id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mi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tek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im.net.id  iptek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40000" y="1414440"/>
            <a:ext cx="39891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ntrin.net.id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sion.net.id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b.net.id 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ne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print.net.id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foasia.net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bi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ot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 (cont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tra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r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it.net.id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dia.net.id 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pura.net.id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114800" y="1414440"/>
            <a:ext cx="4014720" cy="3919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 fontScale="97000"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       Sprint Internatio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adin.net.id     Telkom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bn.net.id          MCI      AG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.net.id          abone.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bm.net.id          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net.net.id         UU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ma.net.id        AT &amp; T EasyLink Services Asia-Pacif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ura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.net.id   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73080" y="2766960"/>
            <a:ext cx="438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 ISPs Interconnecte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apji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netflow perl scri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tsh.or.id/netflow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xed Custom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restricted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plenty of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 who all want to be the IX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ow for a variety of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for peer without AS num (Route Reflector and switched eth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y Meshed Pe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 using back to back DCE-DTE V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3 Connections on the three 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4876920" y="3886200"/>
            <a:ext cx="304560" cy="8380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962520"/>
            <a:ext cx="838440" cy="7617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981080"/>
            <a:ext cx="15264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05520" y="297180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971800"/>
            <a:ext cx="190512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52320" y="1905120"/>
            <a:ext cx="38124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905120"/>
            <a:ext cx="53352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05520" y="1981080"/>
            <a:ext cx="76176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9840" y="1447920"/>
            <a:ext cx="4359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447920"/>
            <a:ext cx="53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638680" y="457200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8560" y="2895480"/>
            <a:ext cx="792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9840" y="3733920"/>
            <a:ext cx="743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819520"/>
            <a:ext cx="747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1240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20040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0384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bn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ix-sat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one 7000 and one 251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ly 8 peers to I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ether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seri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link is saturat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te announcement enforce by radb databa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2T22:41:52Z</dcterms:created>
  <dc:creator>David Powell</dc:creator>
  <dc:description/>
  <dc:language>en-US</dc:language>
  <cp:lastModifiedBy>Barry Raveendran Greene</cp:lastModifiedBy>
  <cp:lastPrinted>1998-02-08T14:50:43Z</cp:lastPrinted>
  <dcterms:modified xsi:type="dcterms:W3CDTF">1998-02-20T03:12:12Z</dcterms:modified>
  <cp:revision>26</cp:revision>
  <dc:subject/>
  <dc:title>NetFlow (TM) Technology and Applications</dc:title>
</cp:coreProperties>
</file>