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8129588" cy="6099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87964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5176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0752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87964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35176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45840" y="196920"/>
            <a:ext cx="677844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1000"/>
          </a:bodyPr>
          <a:p>
            <a:pPr marL="208080" indent="-20808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075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615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8150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86560" y="5889600"/>
            <a:ext cx="6102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fld id="{27392E9B-F0F3-437F-9413-3DE3F3579D0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84480" y="2638440"/>
            <a:ext cx="16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2600" y="0"/>
            <a:ext cx="619200" cy="866880"/>
            <a:chOff x="-12600" y="0"/>
            <a:chExt cx="619200" cy="866880"/>
          </a:xfrm>
        </p:grpSpPr>
        <p:sp>
          <p:nvSpPr>
            <p:cNvPr id="5" name=""/>
            <p:cNvSpPr/>
            <p:nvPr/>
          </p:nvSpPr>
          <p:spPr>
            <a:xfrm>
              <a:off x="6480" y="6480"/>
              <a:ext cx="581040" cy="62676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480" y="420840"/>
              <a:ext cx="581040" cy="4381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-12600" y="414360"/>
              <a:ext cx="61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5440" cy="866880"/>
            </a:xfrm>
            <a:custGeom>
              <a:avLst/>
              <a:gdLst/>
              <a:ahLst/>
              <a:rect l="l" t="t" r="r" b="b"/>
              <a:pathLst>
                <a:path w="375" h="546">
                  <a:moveTo>
                    <a:pt x="0" y="545"/>
                  </a:moveTo>
                  <a:lnTo>
                    <a:pt x="374" y="545"/>
                  </a:lnTo>
                  <a:lnTo>
                    <a:pt x="37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6691320" y="5251320"/>
            <a:ext cx="1209600" cy="6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" name=""/>
          <p:cNvGraphicFramePr/>
          <p:nvPr/>
        </p:nvGraphicFramePr>
        <p:xfrm>
          <a:off x="457200" y="5334120"/>
          <a:ext cx="1295280" cy="55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334120"/>
                    <a:ext cx="129528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352680"/>
            <a:ext cx="7088400" cy="990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and Implementation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apjii.or.id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66680"/>
            <a:ext cx="8129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Indonesia Internet Exchange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4762800" cy="1285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533160"/>
            <a:ext cx="7464600" cy="3733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ly Graph ( 30 Minute averag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iix-s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cb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52480" y="3733920"/>
            <a:ext cx="4762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3392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243828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438280"/>
            <a:ext cx="16002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352680" y="2438280"/>
            <a:ext cx="0" cy="60984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2438280"/>
            <a:ext cx="13716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2057400"/>
            <a:ext cx="2209680" cy="9144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609480" cy="360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71960" y="1447920"/>
            <a:ext cx="98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bn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4720" y="1523880"/>
            <a:ext cx="9525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29760" y="1447920"/>
            <a:ext cx="1031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o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144792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77840" y="289548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59480" y="28195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25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352680" y="411480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411480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352680" y="3048120"/>
            <a:ext cx="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352680" y="2895480"/>
            <a:ext cx="1752840" cy="99072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243828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2438280"/>
            <a:ext cx="16002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352680" y="2438280"/>
            <a:ext cx="0" cy="60984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438280"/>
            <a:ext cx="13716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2057400"/>
            <a:ext cx="2209680" cy="9144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609480" cy="360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71960" y="1447920"/>
            <a:ext cx="98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bn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4720" y="1523880"/>
            <a:ext cx="9525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29760" y="1447920"/>
            <a:ext cx="1031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o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144792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38520" y="39625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3029040" y="3733920"/>
            <a:ext cx="769680" cy="450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4781520" y="37339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3048120" y="44956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4800600" y="449568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23560" y="1523880"/>
            <a:ext cx="504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1981080"/>
            <a:ext cx="0" cy="4572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480060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kom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4800600"/>
            <a:ext cx="83844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77840" y="289548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77840" y="37339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59480" y="37339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59480" y="28195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4648320" y="1828800"/>
            <a:ext cx="58716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/5/97 First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/7/97 IIX white pa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/9/97 IIX is up with 6 peering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/9/97 IIX-Ind is up with 1 peering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/9/97 IIX Diagnostic homep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X Looking g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TG interface stat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/10/97 BGP peer up with rad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/11/97 ITB join IIX through rad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/12/97 128 Kbps link GCC&lt;-&gt; SMG2 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/2/98 Using RtConfig ( RAToolSet ) to configure I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414440"/>
            <a:ext cx="37591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lsa.net.id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cific.net.id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ninet.net.id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.net.id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nk.net.id 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erce.net.id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umi.net.id 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ptek.net.id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im.net.id  iptek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40000" y="1414440"/>
            <a:ext cx="39891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indo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entrin.net.id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sion.net.id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b.net.id  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ga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ine.net.id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sprint.net.id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foasia.net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bi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ot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414440"/>
            <a:ext cx="37591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indo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 (cont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itra.net.id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r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it.net.id 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ga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dia.net.id     unreach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a Satelin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pura.net.id    unreach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a Satelin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114800" y="1414440"/>
            <a:ext cx="4014720" cy="3919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 fontScale="97000"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lkom.net.id       Sprint Internation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adin.net.id     Telkom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bn.net.id          MCI      AG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ad.net.id          abone.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bm.net.id          IG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net.net.id         UU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ma.net.id        AT &amp; T EasyLink Services Asia-Pacifi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.net.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lkom.Net.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etura.net.id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.net.id   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cess.net.id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6782040" cy="1600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Autofit/>
          </a:bodyPr>
          <a:p>
            <a:pPr lvl="1" marL="5032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S. Hariman tony@cbn.net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, Network Operation CBNn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y Greene bgreene@cisco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ior Consultant, Corporate Consulting Engine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873080" y="2766960"/>
            <a:ext cx="4381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 ISPs Interconnecte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S. Hariman tony@cbn.net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, Network Operation CBN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y Greene bgreene@cisco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ior Consultant, Corporate Consulting Engine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 on apjii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apjii.or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 on netflow perl scrip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tsh.or.id/netflow.ht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ixed Custome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with restricted cap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with plenty of cap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cos who all want to be the IX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llow for a variety of pee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 for peer without AS num (Route Reflector and switched eth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y Meshed Pee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ed using back to back DCE-DTE V3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3 Connections on the three Tel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flipH="1">
            <a:off x="4876920" y="3886200"/>
            <a:ext cx="304560" cy="8380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3962520"/>
            <a:ext cx="838440" cy="7617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1981080"/>
            <a:ext cx="152640" cy="9907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77880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105520" y="2971800"/>
            <a:ext cx="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2971800"/>
            <a:ext cx="190512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352320" y="1905120"/>
            <a:ext cx="381240" cy="10666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1905120"/>
            <a:ext cx="533520" cy="10666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05520" y="1981080"/>
            <a:ext cx="761760" cy="9907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89840" y="1447920"/>
            <a:ext cx="4359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1447920"/>
            <a:ext cx="53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4781520" y="37339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5638680" y="457200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4648320" y="1828800"/>
            <a:ext cx="587160" cy="347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78560" y="2895480"/>
            <a:ext cx="792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59840" y="3733920"/>
            <a:ext cx="743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2819520"/>
            <a:ext cx="747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i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152388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152388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87692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4572000" y="45720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0" y="487692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312408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320040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403848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bn link 64 Kb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iix-sat link 64 Kb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one 7000 and one 251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urrently 8 peers to IIX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use ether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use seri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link is saturat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ute announcement enforce by radb databa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2T22:41:52Z</dcterms:created>
  <dc:creator>David Powell</dc:creator>
  <dc:description/>
  <dc:language>en-US</dc:language>
  <cp:lastModifiedBy>Barry Raveendran Greene</cp:lastModifiedBy>
  <cp:lastPrinted>1998-02-08T14:50:43Z</cp:lastPrinted>
  <dcterms:modified xsi:type="dcterms:W3CDTF">1998-02-20T03:12:12Z</dcterms:modified>
  <cp:revision>26</cp:revision>
  <dc:subject/>
  <dc:title>NetFlow (TM) Technology and Applications</dc:title>
</cp:coreProperties>
</file>