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952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32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8D91971-47CD-4B7D-8228-BB37E4E9E5A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5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241280" y="2419200"/>
            <a:ext cx="563868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ntroduction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P Multic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0960" y="2028960"/>
            <a:ext cx="716436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hosts tell routers about group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solicit group membership from directly connected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 specifies first version of IG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 and IGMP v3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ed on UNIX systems, PCs, and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1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2800" y="1727280"/>
            <a:ext cx="7238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ier sends IGMP query messages to 224.0.0.1 with ttl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rou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LAN is designated/elected to send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y interval 60–12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GMP report sent by one ho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presses sending b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rict to one report per group per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solicited reports sent by host, when it first joins the 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2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42960" y="420840"/>
            <a:ext cx="5322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Join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43036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41180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37848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0540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7628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476440" y="412740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55600" y="2644920"/>
            <a:ext cx="787680" cy="700560"/>
          </a:xfrm>
          <a:custGeom>
            <a:avLst/>
            <a:gdLst/>
            <a:ahLst/>
            <a:rect l="0" t="0" r="r" b="b"/>
            <a:pathLst>
              <a:path fill="none" w="2188" h="1946">
                <a:moveTo>
                  <a:pt x="2188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94520" y="2644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27520" y="3490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573880" y="1643040"/>
            <a:ext cx="928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860400" y="1363680"/>
            <a:ext cx="64008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st sends leave message if it leaves the grou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the last member (reduces leave latency in comparison to 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r sends G-specific queries to make su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o members present before stopp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orward data for the group for that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querier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desig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o listen only to a specified subs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hosts sending to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42960" y="420840"/>
            <a:ext cx="53989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Leav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43036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41180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37848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33888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0976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476440" y="425304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5560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2193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9452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27520" y="3463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573880" y="18669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70160" y="2266920"/>
            <a:ext cx="789480" cy="381240"/>
          </a:xfrm>
          <a:custGeom>
            <a:avLst/>
            <a:gdLst/>
            <a:ahLst/>
            <a:rect l="0" t="0" r="r" b="b"/>
            <a:pathLst>
              <a:path fill="none" w="2193" h="1059">
                <a:moveTo>
                  <a:pt x="2193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405160" y="261468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476440" y="486576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672240" y="3995640"/>
            <a:ext cx="423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31720" y="1446120"/>
            <a:ext cx="70102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What is RP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uter forwards a multicast datagram if received on the interface used to send unicast datagrams to th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346480" y="3506760"/>
            <a:ext cx="547560" cy="26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440" y="34304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295960" y="3564000"/>
            <a:ext cx="603360" cy="279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5240" y="3562200"/>
            <a:ext cx="85680" cy="317520"/>
          </a:xfrm>
          <a:prstGeom prst="ellipse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0640" y="3691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721400" y="36543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28720" y="4227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10360" y="43243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7520" y="399744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075440" y="384480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63520" y="384480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98760" y="2906640"/>
            <a:ext cx="723600" cy="75240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4560" y="2820960"/>
            <a:ext cx="3124080" cy="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4960" y="2820960"/>
            <a:ext cx="838080" cy="83808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51040" y="4649760"/>
            <a:ext cx="801720" cy="69372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27280" y="5411880"/>
            <a:ext cx="2819520" cy="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548320" y="4649760"/>
            <a:ext cx="927000" cy="77148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603600" y="2819520"/>
            <a:ext cx="9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530520" y="541008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59080" y="4780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707000" y="4780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0960" y="5187960"/>
            <a:ext cx="3051360" cy="126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7360" y="449748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586480" y="4616280"/>
            <a:ext cx="687240" cy="5670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440" y="464976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4560" y="4116240"/>
            <a:ext cx="698400" cy="328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21160" y="4116240"/>
            <a:ext cx="621000" cy="33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865600" y="318132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4417920" y="31701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2898720" y="42879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4375080" y="42735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1487520" y="37227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5826240" y="372276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55480" y="1995480"/>
            <a:ext cx="70102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succeed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fail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ypically silently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 datagram is forwarded, it is sent out each interface in the outgoing interfac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warded back ou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F interf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3760" y="1320840"/>
            <a:ext cx="80773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76360" y="32479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1980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4400" y="35100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359000" y="1898640"/>
            <a:ext cx="85104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924440" y="2125800"/>
            <a:ext cx="1765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748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40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8480" y="1397160"/>
            <a:ext cx="4726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62472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051440" y="3510000"/>
            <a:ext cx="1514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503360" y="1898640"/>
            <a:ext cx="10206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772160" y="1898640"/>
            <a:ext cx="2133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034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68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3595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452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900680" y="32781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53160" y="312588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43680" y="3278160"/>
            <a:ext cx="53316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713640" y="320184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04640" y="1554120"/>
            <a:ext cx="73119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more memory O(S x G) but you get optim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s from source to all receivers, minimize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d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less memory O(G) but you may get suboptimal paths from source to all rece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introduce extra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M, DVMRP, MOSPF, C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42960" y="174600"/>
            <a:ext cx="67788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58720" y="2602080"/>
            <a:ext cx="70041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anoj Leelani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168560" y="3699000"/>
            <a:ext cx="5784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 algn="ctr">
              <a:lnSpc>
                <a:spcPct val="95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30320" y="1716120"/>
            <a:ext cx="786132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es of multicas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Radio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Pay P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0320" y="1792440"/>
            <a:ext cx="786132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se-mod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s dense group memb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ches that are pruned don’t ge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uce joi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MRP—Distance Vector Multicast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 PIM—Protocol Independent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642960" y="174600"/>
            <a:ext cx="61610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04640" y="1432080"/>
            <a:ext cx="7311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rse-mod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es group membership is sparsely populated across a large reg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s either source or shared distribution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—assumes no one want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acket unless as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oins propagate from receiver to sour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Rendezvous Point (Sparse mode PIM)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Core (Core-Based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79520" y="166068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ideal for den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trees created on demand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RPF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ource goes inactive, the tre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r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plug-and-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dense-spec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79520" y="1833480"/>
            <a:ext cx="716292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es that don’t care for data are pr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fts to join existing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Asserts to determine forwar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ulti-access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unes on non-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-limited prunes on 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 flipV="1">
            <a:off x="1812960" y="2287440"/>
            <a:ext cx="1028520" cy="10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8720" y="27255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38624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1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2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grpSp>
        <p:nvGrpSpPr>
          <p:cNvPr id="834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835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845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85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425840" y="1449360"/>
            <a:ext cx="2227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04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1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425840" y="1449360"/>
            <a:ext cx="288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382840" y="28335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V="1">
            <a:off x="1927080" y="2490840"/>
            <a:ext cx="914400" cy="91440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6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7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17510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512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425840" y="1449360"/>
            <a:ext cx="3141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913040" y="358128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28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29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042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460600" y="3963960"/>
            <a:ext cx="0" cy="30492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5584680" y="2421000"/>
            <a:ext cx="38124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84680" y="3633840"/>
            <a:ext cx="38124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425840" y="1449360"/>
            <a:ext cx="2509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749680" y="3962520"/>
            <a:ext cx="85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5967360" y="3430440"/>
            <a:ext cx="155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026040" y="228600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9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0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6880" y="1365120"/>
            <a:ext cx="74674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Technology and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Host-to-Router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outing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tocol Independent Multicast—P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 Multicast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iver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42960" y="420840"/>
            <a:ext cx="1893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27560" y="4878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689200" y="43959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9"/>
          <a:stretch/>
        </p:blipFill>
        <p:spPr>
          <a:xfrm>
            <a:off x="2868480" y="50547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49680" y="39625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4425840" y="1449360"/>
            <a:ext cx="28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161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74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60720" y="46497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427560" y="49546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612880" y="4395960"/>
            <a:ext cx="990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9"/>
          <a:stretch/>
        </p:blipFill>
        <p:spPr>
          <a:xfrm>
            <a:off x="2868480" y="520704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22720" y="495468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1357200" y="2328840"/>
            <a:ext cx="5137560" cy="2470320"/>
            <a:chOff x="1357200" y="2328840"/>
            <a:chExt cx="5137560" cy="2470320"/>
          </a:xfrm>
        </p:grpSpPr>
        <p:sp>
          <p:nvSpPr>
            <p:cNvPr id="1223" name=""/>
            <p:cNvSpPr txBox="1"/>
            <p:nvPr/>
          </p:nvSpPr>
          <p:spPr>
            <a:xfrm>
              <a:off x="29574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38401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9574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1357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13572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212580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6151680" y="278604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23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237960" y="1042920"/>
            <a:ext cx="7645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icit jo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join to the Rendezvous Point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s register with the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laces that need the data from th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t hop routers can join source tree if the data rate warrants by sending joins to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hared tree uses the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26880" y="1484280"/>
            <a:ext cx="74674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one RP is chosen for a particula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 statically configured or dynamically learned (Auto-RP, PIM v2 candidate RP advertis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orwarded based on the source state (S, G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exists, otherwise use the shared state (*,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sm-spec-10.t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on to be R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arch-04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1880" y="388764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1278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314960" y="1123920"/>
            <a:ext cx="2717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043520" y="332748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314960" y="1123920"/>
            <a:ext cx="2108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314960" y="112392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 txBox="1"/>
          <p:nvPr/>
        </p:nvSpPr>
        <p:spPr>
          <a:xfrm>
            <a:off x="3048120" y="19620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30832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847"/>
                </a:moveTo>
                <a:lnTo>
                  <a:pt x="5292" y="0"/>
                </a:lnTo>
                <a:lnTo>
                  <a:pt x="1270" y="0"/>
                </a:lnTo>
                <a:lnTo>
                  <a:pt x="0" y="1271"/>
                </a:lnTo>
              </a:path>
            </a:pathLst>
          </a:custGeom>
          <a:ln w="25560">
            <a:solidFill>
              <a:srgbClr val="008aae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9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 txBox="1"/>
          <p:nvPr/>
        </p:nvSpPr>
        <p:spPr>
          <a:xfrm>
            <a:off x="284148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0672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348240" y="25160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14960" y="1123920"/>
            <a:ext cx="27176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 txBox="1"/>
          <p:nvPr/>
        </p:nvSpPr>
        <p:spPr>
          <a:xfrm>
            <a:off x="2820960" y="1962000"/>
            <a:ext cx="13273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46060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1271"/>
                </a:moveTo>
                <a:lnTo>
                  <a:pt x="4869" y="0"/>
                </a:lnTo>
                <a:lnTo>
                  <a:pt x="846" y="0"/>
                </a:lnTo>
                <a:lnTo>
                  <a:pt x="0" y="847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614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57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90068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89104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9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84080" y="1152360"/>
            <a:ext cx="655308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multic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sending same data to multiple 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er bandwidth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er host/rou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’ address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deo/audi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discovery/service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ck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. Vat, Vic, IP/TV, Point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314960" y="1123920"/>
            <a:ext cx="28702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6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7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8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1914480" y="2973240"/>
            <a:ext cx="673200" cy="67320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9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1360440" y="34844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4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56040" y="3327480"/>
            <a:ext cx="17715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 txBox="1"/>
          <p:nvPr/>
        </p:nvSpPr>
        <p:spPr>
          <a:xfrm>
            <a:off x="2851200" y="2287440"/>
            <a:ext cx="11890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4314960" y="1123920"/>
            <a:ext cx="3403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6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8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3146400" y="3786120"/>
            <a:ext cx="12952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9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 txBox="1"/>
          <p:nvPr/>
        </p:nvSpPr>
        <p:spPr>
          <a:xfrm>
            <a:off x="3502080" y="3403440"/>
            <a:ext cx="10018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02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7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9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632160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7"/>
          <a:stretch/>
        </p:blipFill>
        <p:spPr>
          <a:xfrm>
            <a:off x="6689880" y="237168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8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9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0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 txBox="1"/>
          <p:nvPr/>
        </p:nvSpPr>
        <p:spPr>
          <a:xfrm>
            <a:off x="6532560" y="2951280"/>
            <a:ext cx="9129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65840" y="21906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37120" y="236376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5716" y="848"/>
                </a:moveTo>
                <a:lnTo>
                  <a:pt x="4869" y="0"/>
                </a:lnTo>
                <a:lnTo>
                  <a:pt x="846" y="0"/>
                </a:lnTo>
                <a:lnTo>
                  <a:pt x="0" y="848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04640" y="1427040"/>
            <a:ext cx="73119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TL sco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eep multicast traffic within an administrative domain by setting ttl thresholds on interfaces on the border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ministratively 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cast boundary can be set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borders for addresses in ran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239.0.0.0–239.255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ter than ttl scoping (pruning, solid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42960" y="174600"/>
            <a:ext cx="5398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Scop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663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 txBox="1"/>
          <p:nvPr/>
        </p:nvSpPr>
        <p:spPr>
          <a:xfrm>
            <a:off x="1089000" y="1203480"/>
            <a:ext cx="5943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end traffic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and output rate-limi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urce-tree thres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IM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tree sav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42960" y="420840"/>
            <a:ext cx="43322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860400" y="1709640"/>
            <a:ext cx="64008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for differ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lticast protoco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/DVMRP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ion between PIM SM/DM regio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DVMRP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ON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-SM/PIM-DM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 has to be the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rder Router 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631800" y="1511280"/>
            <a:ext cx="6858000" cy="36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tion of Ethernet bridges/swi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ward all multicast traffic to al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goes to segments with routers and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suppression per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MP (Cisco Group Managemen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/memb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es do not snoop into IGM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42960" y="174600"/>
            <a:ext cx="57801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and Sw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631800" y="1365120"/>
            <a:ext cx="68580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fastswitching/fast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static ro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trace/mrinf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NBM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SPT thresh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42960" y="420840"/>
            <a:ext cx="39513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cast/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42960" y="21146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78000" y="272412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394320" y="1568520"/>
            <a:ext cx="128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691240" y="1560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861080" y="1901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95920" y="20732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300560" y="16444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3825720" y="20606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95920" y="319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362480" y="9190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049640" y="2135160"/>
            <a:ext cx="52236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1733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34960" y="2322360"/>
            <a:ext cx="822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630520" y="12384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79560" y="13874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73520" y="1889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25840" y="12016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51400" y="135108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51200" y="235908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6680" y="2508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91240" y="27003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3138480" y="9828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6"/>
          <a:stretch/>
        </p:blipFill>
        <p:spPr>
          <a:xfrm>
            <a:off x="3139920" y="22525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630520" y="1835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56000" y="1986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220968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2060640" y="15699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861080" y="300024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4300560" y="27766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85920" y="1874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85920" y="202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>
            <a:off x="650880" y="1506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42960" y="46274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78000" y="523728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94320" y="407664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5691240" y="409572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861080" y="443880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95920" y="45878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1"/>
          <a:stretch/>
        </p:blipFill>
        <p:spPr>
          <a:xfrm>
            <a:off x="4300560" y="41590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 flipV="1">
            <a:off x="3825720" y="45752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95920" y="570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4362480" y="34336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2630520" y="37530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779560" y="39020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772080" y="4424400"/>
            <a:ext cx="52200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25840" y="37162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25840" y="38671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94040" y="491652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76680" y="5022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5691240" y="52149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3138480" y="34974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5"/>
          <a:stretch/>
        </p:blipFill>
        <p:spPr>
          <a:xfrm>
            <a:off x="3139920" y="47671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630520" y="43498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500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6"/>
          <a:stretch/>
        </p:blipFill>
        <p:spPr>
          <a:xfrm>
            <a:off x="2060640" y="40845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838760" y="555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7"/>
          <a:stretch/>
        </p:blipFill>
        <p:spPr>
          <a:xfrm>
            <a:off x="4300560" y="52912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285920" y="438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85920" y="453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8"/>
          <a:stretch/>
        </p:blipFill>
        <p:spPr>
          <a:xfrm>
            <a:off x="650880" y="4021200"/>
            <a:ext cx="6732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1927080" y="1365120"/>
            <a:ext cx="42670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MP 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GMP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to-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DR listener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er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642960" y="420840"/>
            <a:ext cx="5627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1698480" y="1193760"/>
            <a:ext cx="4724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1.2F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over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VMRP interoperabilit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Tag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42960" y="420840"/>
            <a:ext cx="7229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—11.2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 txBox="1"/>
          <p:nvPr/>
        </p:nvSpPr>
        <p:spPr>
          <a:xfrm>
            <a:off x="442800" y="1058760"/>
            <a:ext cx="7240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mb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e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ipmulticast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ONE—open session “cisco PIM u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e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—11.1(9) New features—11.2 and 11.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642960" y="420840"/>
            <a:ext cx="3494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936720" y="995400"/>
            <a:ext cx="624852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ulticast group identifi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a class-D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group could be present anywher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join and leave the gro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ndicate this to the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s and receivers are distinct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, a sender need not be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listen to all multicast addres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use multicast routing protoco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n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42960" y="420840"/>
            <a:ext cx="59324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50920" y="1217520"/>
            <a:ext cx="76201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P grou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 D address—high-order 3 bits are set (224.0.0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nge from 224.0.0.0 through 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ll known addresses designated by I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rved use: 224.0.0.0 through 224.0.0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1—all multicast system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2—all router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ient addresses, assig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 reclaimed dynam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lobal scope: 224.0.1.0-238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mited Scope: 239.0.0.0-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te-local scope: 239.253.0.0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-local scope: 239.192.0.0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2640" y="1260360"/>
            <a:ext cx="6021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681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pping IP group addresses to data-lin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ulticast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FC 1112 defines OUI 0x01005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-order 23-bits of IP address m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o low-order 23-bits of IEEE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g. 224.2.2.2–01005e.020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and FDDI use this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 Ring uses functional address-c000.4000.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42960" y="434880"/>
            <a:ext cx="74581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9640" y="196524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9640" y="360360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955800" y="1276200"/>
            <a:ext cx="3714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55800" y="5084640"/>
            <a:ext cx="417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686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0402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1880" y="228744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2287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6003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971960" y="17622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63760" y="3811680"/>
            <a:ext cx="838440" cy="83808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3627360" y="453708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V="1">
            <a:off x="3392640" y="304956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87920" y="304956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979720" y="3546360"/>
            <a:ext cx="2120760" cy="479520"/>
            <a:chOff x="2979720" y="3546360"/>
            <a:chExt cx="2120760" cy="479520"/>
          </a:xfrm>
        </p:grpSpPr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297972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427500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2021040" y="3049560"/>
            <a:ext cx="403848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a Tagliafico</dc:creator>
  <dc:description/>
  <dc:language>en-US</dc:language>
  <cp:lastModifiedBy>Dana Tagliafico</cp:lastModifiedBy>
  <cp:revision>0</cp:revision>
  <dc:subject>Networkers</dc:subject>
  <dc:title>Introduction to IP Multicast</dc:title>
</cp:coreProperties>
</file>