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</p:sldIdLst>
  <p:sldSz cx="8129588" cy="6099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129520" cy="609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653240" y="5889600"/>
            <a:ext cx="27000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39A53827-E800-4E06-8FED-E32832316428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240" y="0"/>
            <a:ext cx="594000" cy="865440"/>
            <a:chOff x="-3240" y="0"/>
            <a:chExt cx="594000" cy="865440"/>
          </a:xfrm>
        </p:grpSpPr>
        <p:sp>
          <p:nvSpPr>
            <p:cNvPr id="5" name=""/>
            <p:cNvSpPr/>
            <p:nvPr/>
          </p:nvSpPr>
          <p:spPr>
            <a:xfrm>
              <a:off x="-32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32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32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-32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88080" y="5251320"/>
            <a:ext cx="1209600" cy="6382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6688080" y="5251320"/>
            <a:ext cx="1209600" cy="6382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701640" y="623880"/>
            <a:ext cx="6718320" cy="140976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1241280" y="2419200"/>
            <a:ext cx="563868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Introduction to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IP Multica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653240" y="5889600"/>
            <a:ext cx="203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Group Management Protocol—IG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80960" y="2028960"/>
            <a:ext cx="7164360" cy="28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hosts tell routers about group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rs solicit group membership from directly connected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C 1112 specifies first version of IG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MP v2 and IGMP v3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ed on UNIX systems, PCs, and M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76532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-3240" y="0"/>
            <a:ext cx="594000" cy="865440"/>
            <a:chOff x="-3240" y="0"/>
            <a:chExt cx="594000" cy="865440"/>
          </a:xfrm>
        </p:grpSpPr>
        <p:sp>
          <p:nvSpPr>
            <p:cNvPr id="613" name=""/>
            <p:cNvSpPr/>
            <p:nvPr/>
          </p:nvSpPr>
          <p:spPr>
            <a:xfrm>
              <a:off x="-32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-32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-32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-32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Group Management Protocol—IG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42800" y="1727280"/>
            <a:ext cx="7238880" cy="34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MP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uerier sends IGMP query messages to 224.0.0.1 with ttl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rou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 LAN is designated/elected to send qu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uery interval 60–120 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GMP report sent by one hos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ppresses sending by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trict to one report per group per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solicited reports sent by host, when it first joins the gro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76532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-3240" y="0"/>
            <a:ext cx="594000" cy="865440"/>
            <a:chOff x="-3240" y="0"/>
            <a:chExt cx="594000" cy="865440"/>
          </a:xfrm>
        </p:grpSpPr>
        <p:sp>
          <p:nvSpPr>
            <p:cNvPr id="623" name=""/>
            <p:cNvSpPr/>
            <p:nvPr/>
          </p:nvSpPr>
          <p:spPr>
            <a:xfrm>
              <a:off x="-32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-32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-32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-32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642960" y="420840"/>
            <a:ext cx="53229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GMP—Joining a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430360" y="2333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411800" y="2333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378480" y="2333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305400" y="3341520"/>
            <a:ext cx="1343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  <a:ea typeface="Arial"/>
              </a:rPr>
              <a:t>224.5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76280" y="3341520"/>
            <a:ext cx="1343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2476440" y="4127400"/>
            <a:ext cx="2212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iodically Send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GMP Query to 224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155600" y="2644920"/>
            <a:ext cx="787680" cy="700560"/>
          </a:xfrm>
          <a:custGeom>
            <a:avLst/>
            <a:gdLst/>
            <a:ahLst/>
            <a:rect l="0" t="0" r="r" b="b"/>
            <a:pathLst>
              <a:path fill="none" w="2188" h="1946">
                <a:moveTo>
                  <a:pt x="2188" y="0"/>
                </a:moveTo>
                <a:lnTo>
                  <a:pt x="0" y="0"/>
                </a:lnTo>
                <a:lnTo>
                  <a:pt x="0" y="1946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94520" y="2644920"/>
            <a:ext cx="789480" cy="700560"/>
          </a:xfrm>
          <a:custGeom>
            <a:avLst/>
            <a:gdLst/>
            <a:ahLst/>
            <a:rect l="0" t="0" r="r" b="b"/>
            <a:pathLst>
              <a:path fill="none" w="2193" h="1946">
                <a:moveTo>
                  <a:pt x="0" y="0"/>
                </a:moveTo>
                <a:lnTo>
                  <a:pt x="2193" y="0"/>
                </a:lnTo>
                <a:lnTo>
                  <a:pt x="2193" y="1946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27520" y="3490920"/>
            <a:ext cx="789480" cy="351360"/>
          </a:xfrm>
          <a:custGeom>
            <a:avLst/>
            <a:gdLst/>
            <a:ahLst/>
            <a:rect l="0" t="0" r="r" b="b"/>
            <a:pathLst>
              <a:path fill="none" w="2193" h="976">
                <a:moveTo>
                  <a:pt x="0" y="976"/>
                </a:moveTo>
                <a:lnTo>
                  <a:pt x="2193" y="976"/>
                </a:lnTo>
                <a:lnTo>
                  <a:pt x="2193" y="0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576600" y="18525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573880" y="1643040"/>
            <a:ext cx="928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br>
              <a:rPr sz="1400"/>
            </a:br>
            <a:r>
              <a:rPr b="1" lang="en-US" sz="1400" spc="-1" strike="noStrike">
                <a:solidFill>
                  <a:srgbClr val="cf0e30"/>
                </a:solidFill>
                <a:latin typeface="Arial"/>
                <a:ea typeface="Arial"/>
              </a:rPr>
              <a:t>224.5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630440" y="18525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603720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09232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1719360" y="2157480"/>
            <a:ext cx="744480" cy="6508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 flipV="1">
            <a:off x="403848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5664240" y="2157480"/>
            <a:ext cx="746280" cy="65088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3"/>
          <a:stretch/>
        </p:blipFill>
        <p:spPr>
          <a:xfrm>
            <a:off x="3665520" y="2157480"/>
            <a:ext cx="744480" cy="65088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1658880" y="3174840"/>
            <a:ext cx="4837320" cy="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3080" y="3184560"/>
            <a:ext cx="0" cy="52560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4"/>
          <a:stretch/>
        </p:blipFill>
        <p:spPr>
          <a:xfrm>
            <a:off x="3108240" y="3537000"/>
            <a:ext cx="94932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860400" y="1363680"/>
            <a:ext cx="64008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MP v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st sends leave message if it leaves the group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is the last member (reduces leave latency in comparison to v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uter sends G-specific queries to make su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no members present before stopp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forward data for the group for that sub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querier 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MP v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desig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to listen only to a specified subse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 hosts sending to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net Group Management Protocol—IGM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 flipV="1">
            <a:off x="603720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209232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038480" y="2644920"/>
            <a:ext cx="0" cy="52524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42960" y="420840"/>
            <a:ext cx="53989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GMP—Leaving a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430360" y="2306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411800" y="2306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378480" y="2306520"/>
            <a:ext cx="73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338880" y="3314880"/>
            <a:ext cx="127476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Lea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224.5.5.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224.0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509760" y="3314880"/>
            <a:ext cx="127476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Lea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224.2.0.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224.0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476440" y="4253040"/>
            <a:ext cx="2212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Group Spec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GMP Query to 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155600" y="2617920"/>
            <a:ext cx="789480" cy="700560"/>
          </a:xfrm>
          <a:custGeom>
            <a:avLst/>
            <a:gdLst/>
            <a:ahLst/>
            <a:rect l="0" t="0" r="r" b="b"/>
            <a:pathLst>
              <a:path fill="none" w="2193" h="1946">
                <a:moveTo>
                  <a:pt x="2193" y="0"/>
                </a:moveTo>
                <a:lnTo>
                  <a:pt x="0" y="0"/>
                </a:lnTo>
                <a:lnTo>
                  <a:pt x="0" y="1946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194520" y="2617920"/>
            <a:ext cx="789480" cy="700560"/>
          </a:xfrm>
          <a:custGeom>
            <a:avLst/>
            <a:gdLst/>
            <a:ahLst/>
            <a:rect l="0" t="0" r="r" b="b"/>
            <a:pathLst>
              <a:path fill="none" w="2193" h="1946">
                <a:moveTo>
                  <a:pt x="0" y="0"/>
                </a:moveTo>
                <a:lnTo>
                  <a:pt x="2193" y="0"/>
                </a:lnTo>
                <a:lnTo>
                  <a:pt x="2193" y="1946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827520" y="3463920"/>
            <a:ext cx="789480" cy="351360"/>
          </a:xfrm>
          <a:custGeom>
            <a:avLst/>
            <a:gdLst/>
            <a:ahLst/>
            <a:rect l="0" t="0" r="r" b="b"/>
            <a:pathLst>
              <a:path fill="none" w="2193" h="976">
                <a:moveTo>
                  <a:pt x="0" y="976"/>
                </a:moveTo>
                <a:lnTo>
                  <a:pt x="2193" y="976"/>
                </a:lnTo>
                <a:lnTo>
                  <a:pt x="2193" y="0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5573880" y="18669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170160" y="2266920"/>
            <a:ext cx="789480" cy="381240"/>
          </a:xfrm>
          <a:custGeom>
            <a:avLst/>
            <a:gdLst/>
            <a:ahLst/>
            <a:rect l="0" t="0" r="r" b="b"/>
            <a:pathLst>
              <a:path fill="none" w="2193" h="1059">
                <a:moveTo>
                  <a:pt x="2193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2405160" y="2614680"/>
            <a:ext cx="13431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Repor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476440" y="4865760"/>
            <a:ext cx="2212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Group Specifi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GMP Query to 224.5.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658880" y="3174840"/>
            <a:ext cx="4837320" cy="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576600" y="18525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630440" y="1852560"/>
            <a:ext cx="928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24.2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1719360" y="2157480"/>
            <a:ext cx="744480" cy="6508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5664240" y="2157480"/>
            <a:ext cx="746280" cy="6508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V="1">
            <a:off x="3583080" y="3184560"/>
            <a:ext cx="0" cy="52560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3108240" y="353700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4"/>
          <a:stretch/>
        </p:blipFill>
        <p:spPr>
          <a:xfrm>
            <a:off x="3665520" y="2157480"/>
            <a:ext cx="7444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672240" y="3995640"/>
            <a:ext cx="423720" cy="1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5800" bIns="-55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42960" y="174600"/>
            <a:ext cx="62373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Protoc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Reverse Path Forward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31720" y="1446120"/>
            <a:ext cx="701028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What is RP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83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router forwards a multicast datagram if received on the interface used to send unicast datagrams to the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2346480" y="3506760"/>
            <a:ext cx="547560" cy="26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808440" y="343044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5295960" y="3564000"/>
            <a:ext cx="603360" cy="279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95240" y="3562200"/>
            <a:ext cx="85680" cy="317520"/>
          </a:xfrm>
          <a:prstGeom prst="ellipse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230640" y="36910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721400" y="365436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728720" y="42274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210360" y="4324320"/>
            <a:ext cx="324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17520" y="3997440"/>
            <a:ext cx="324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7075440" y="3844800"/>
            <a:ext cx="78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263520" y="3844800"/>
            <a:ext cx="925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1598760" y="2906640"/>
            <a:ext cx="723600" cy="752400"/>
          </a:xfrm>
          <a:prstGeom prst="line">
            <a:avLst/>
          </a:prstGeom>
          <a:ln w="381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284560" y="2820960"/>
            <a:ext cx="3124080" cy="0"/>
          </a:xfrm>
          <a:prstGeom prst="line">
            <a:avLst/>
          </a:prstGeom>
          <a:ln w="381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484960" y="2820960"/>
            <a:ext cx="838080" cy="838080"/>
          </a:xfrm>
          <a:prstGeom prst="line">
            <a:avLst/>
          </a:prstGeom>
          <a:ln w="381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751040" y="4649760"/>
            <a:ext cx="801720" cy="693720"/>
          </a:xfrm>
          <a:prstGeom prst="line">
            <a:avLst/>
          </a:prstGeom>
          <a:ln w="381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627280" y="5411880"/>
            <a:ext cx="2819520" cy="0"/>
          </a:xfrm>
          <a:prstGeom prst="line">
            <a:avLst/>
          </a:prstGeom>
          <a:ln w="381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5548320" y="4649760"/>
            <a:ext cx="927000" cy="771480"/>
          </a:xfrm>
          <a:prstGeom prst="line">
            <a:avLst/>
          </a:prstGeom>
          <a:ln w="381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603600" y="2819520"/>
            <a:ext cx="917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530520" y="5410080"/>
            <a:ext cx="1065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259080" y="4780080"/>
            <a:ext cx="34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707000" y="478008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550960" y="5187960"/>
            <a:ext cx="3051360" cy="12600"/>
          </a:xfrm>
          <a:prstGeom prst="line">
            <a:avLst/>
          </a:prstGeom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27360" y="4497480"/>
            <a:ext cx="761760" cy="685800"/>
          </a:xfrm>
          <a:prstGeom prst="line">
            <a:avLst/>
          </a:prstGeom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586480" y="4616280"/>
            <a:ext cx="687240" cy="567000"/>
          </a:xfrm>
          <a:prstGeom prst="line">
            <a:avLst/>
          </a:prstGeom>
          <a:ln w="25560">
            <a:solidFill>
              <a:srgbClr val="000000"/>
            </a:solidFill>
            <a:custDash>
              <a:ds d="198592" sp="198592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808440" y="464976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84560" y="4116240"/>
            <a:ext cx="698400" cy="328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321160" y="4116240"/>
            <a:ext cx="621000" cy="331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2865600" y="318132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4417920" y="317016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3"/>
          <a:stretch/>
        </p:blipFill>
        <p:spPr>
          <a:xfrm>
            <a:off x="2898720" y="428796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4"/>
          <a:stretch/>
        </p:blipFill>
        <p:spPr>
          <a:xfrm>
            <a:off x="4375080" y="427356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5"/>
          <a:stretch/>
        </p:blipFill>
        <p:spPr>
          <a:xfrm>
            <a:off x="1487520" y="3722760"/>
            <a:ext cx="949320" cy="5508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6"/>
          <a:stretch/>
        </p:blipFill>
        <p:spPr>
          <a:xfrm>
            <a:off x="5826240" y="3722760"/>
            <a:ext cx="94932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 txBox="1"/>
          <p:nvPr/>
        </p:nvSpPr>
        <p:spPr>
          <a:xfrm>
            <a:off x="642960" y="174600"/>
            <a:ext cx="62373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Protoc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Reverse Path Forward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55480" y="1995480"/>
            <a:ext cx="701028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PF check succeeds, the datagr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forwa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RPF check fails, the datagr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ypically silently disca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a datagram is forwarded, it is sent out each interface in the outgoing interfac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83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ket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ne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warded back ou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PF interf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 txBox="1"/>
          <p:nvPr/>
        </p:nvSpPr>
        <p:spPr>
          <a:xfrm>
            <a:off x="642960" y="174600"/>
            <a:ext cx="60847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23760" y="1320840"/>
            <a:ext cx="807732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hortest Path or Source Distribution T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376360" y="32479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2278080" y="543888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284640" y="34956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775040" y="46990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6319800" y="30178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368440" y="49878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2141640" y="34956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424400" y="35100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5578560" y="3495600"/>
            <a:ext cx="270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1359000" y="1898640"/>
            <a:ext cx="85104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924440" y="2125800"/>
            <a:ext cx="176544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ation:  (S, 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 =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 =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079720" y="3290760"/>
            <a:ext cx="761760" cy="7621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3121200" y="3316320"/>
            <a:ext cx="137160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1955880" y="3057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3098880" y="3057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4241880" y="3057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4"/>
          <a:stretch/>
        </p:blipFill>
        <p:spPr>
          <a:xfrm>
            <a:off x="5384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2801880" y="44337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790720" y="4395960"/>
            <a:ext cx="1371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77480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284560" y="26049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603440" y="26035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133880" y="49878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2573280" y="4997520"/>
            <a:ext cx="2222640" cy="414360"/>
            <a:chOff x="2573280" y="4997520"/>
            <a:chExt cx="2222640" cy="414360"/>
          </a:xfrm>
        </p:grpSpPr>
        <p:sp>
          <p:nvSpPr>
            <p:cNvPr id="740" name=""/>
            <p:cNvSpPr/>
            <p:nvPr/>
          </p:nvSpPr>
          <p:spPr>
            <a:xfrm flipV="1">
              <a:off x="2573280" y="4997520"/>
              <a:ext cx="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4795920" y="4997520"/>
              <a:ext cx="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4567320" y="44337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2981160" y="46990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5"/>
          <a:stretch/>
        </p:blipFill>
        <p:spPr>
          <a:xfrm>
            <a:off x="2473200" y="4065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6"/>
          <a:stretch/>
        </p:blipFill>
        <p:spPr>
          <a:xfrm>
            <a:off x="4238640" y="4065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4054320" y="543888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642960" y="174600"/>
            <a:ext cx="60847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698480" y="1397160"/>
            <a:ext cx="4726080" cy="4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hared Distribution Tr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2278080" y="543888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3284640" y="34956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775040" y="46990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6624720" y="30178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68440" y="49878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141640" y="34956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051440" y="3510000"/>
            <a:ext cx="1514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 (Shared Roo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578560" y="3495600"/>
            <a:ext cx="270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1503360" y="1898640"/>
            <a:ext cx="102060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772160" y="1898640"/>
            <a:ext cx="2133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ation:  (*, 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  = All 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 =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79720" y="3290760"/>
            <a:ext cx="761760" cy="762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5384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2801880" y="44337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790720" y="4395960"/>
            <a:ext cx="1371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00340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4560" y="26049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603440" y="26035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133880" y="49878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573280" y="4997520"/>
            <a:ext cx="2222640" cy="414360"/>
            <a:chOff x="2573280" y="4997520"/>
            <a:chExt cx="2222640" cy="414360"/>
          </a:xfrm>
        </p:grpSpPr>
        <p:sp>
          <p:nvSpPr>
            <p:cNvPr id="768" name=""/>
            <p:cNvSpPr/>
            <p:nvPr/>
          </p:nvSpPr>
          <p:spPr>
            <a:xfrm flipV="1">
              <a:off x="2573280" y="4997520"/>
              <a:ext cx="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795920" y="4997520"/>
              <a:ext cx="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567320" y="44337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981160" y="46990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2473200" y="40654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3"/>
          <a:stretch/>
        </p:blipFill>
        <p:spPr>
          <a:xfrm>
            <a:off x="4238640" y="4065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 txBox="1"/>
          <p:nvPr/>
        </p:nvSpPr>
        <p:spPr>
          <a:xfrm>
            <a:off x="4054320" y="543888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121200" y="3316320"/>
            <a:ext cx="1371600" cy="83808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4"/>
          <a:stretch/>
        </p:blipFill>
        <p:spPr>
          <a:xfrm>
            <a:off x="4241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3595680" y="32479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5"/>
          <a:stretch/>
        </p:blipFill>
        <p:spPr>
          <a:xfrm>
            <a:off x="3098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2452680" y="32479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6"/>
          <a:stretch/>
        </p:blipFill>
        <p:spPr>
          <a:xfrm>
            <a:off x="1955880" y="30574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4900680" y="3278160"/>
            <a:ext cx="457200" cy="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653160" y="3125880"/>
            <a:ext cx="457200" cy="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43680" y="3278160"/>
            <a:ext cx="533160" cy="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713640" y="3201840"/>
            <a:ext cx="1042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404640" y="1554120"/>
            <a:ext cx="731196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0656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more memory O(S x G) but you get optim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hs from source to all receivers, minimizes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ared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0656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less memory O(G) but you may get suboptimal paths from source to all receiver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introduce extra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M, DVMRP, MOSPF, C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642960" y="174600"/>
            <a:ext cx="677880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6688080" y="5251320"/>
            <a:ext cx="1209600" cy="6382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701640" y="623880"/>
            <a:ext cx="6718320" cy="14097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558720" y="2602080"/>
            <a:ext cx="700416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Manoj Leelaniv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7653240" y="5889600"/>
            <a:ext cx="203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23064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82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168560" y="3699000"/>
            <a:ext cx="578484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 algn="ctr">
              <a:lnSpc>
                <a:spcPct val="95000"/>
              </a:lnSpc>
              <a:spcBef>
                <a:spcPts val="1199"/>
              </a:spcBef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30320" y="1716120"/>
            <a:ext cx="786132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ypes of multicast protoc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nse-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adcast and Prun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ilar to Radio broad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arse-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licit Join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ilar to Pay Per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642960" y="174600"/>
            <a:ext cx="63133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130320" y="1792440"/>
            <a:ext cx="7861320" cy="29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nse-mode protoc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es dense group member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anches that are pruned don’t ge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uned branches can later be graft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reduce join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VMRP—Distance Vector Multicast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nse-mode PIM—Protocol Independent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642960" y="174600"/>
            <a:ext cx="61610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tocols—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04640" y="1432080"/>
            <a:ext cx="731196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arse-mode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ssumes group membership is sparsely populated across a large reg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ses either source or shared distribution tr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plicit join behavior—assumes no one want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 packet unless ask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Joins propagate from receiver to sourc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 Rendezvous Point (Sparse mode PIM)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 Core (Core-Based Tre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479520" y="1660680"/>
            <a:ext cx="716292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cast and prune ideal for dens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rce trees created on demand bas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RPF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source goes inactive, the tre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rn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sy plug-and-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ft: draft-ietf-idmr-pim-dense-spec-00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642960" y="420840"/>
            <a:ext cx="387504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479520" y="1833480"/>
            <a:ext cx="7162920" cy="2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nches that don’t care for data are pr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fts to join existing sourc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s Asserts to determine forward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multi-access 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unes on non-RPF P2P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te-limited prunes on RPF P2P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642960" y="420840"/>
            <a:ext cx="387504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 flipV="1">
            <a:off x="1812960" y="2287440"/>
            <a:ext cx="1028520" cy="1028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3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4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5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08720" y="27255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3862440"/>
            <a:ext cx="546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6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7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8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9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10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11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12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grpSp>
        <p:nvGrpSpPr>
          <p:cNvPr id="834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835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5738760" y="1144440"/>
            <a:ext cx="1676520" cy="990720"/>
            <a:chOff x="5738760" y="1144440"/>
            <a:chExt cx="1676520" cy="990720"/>
          </a:xfrm>
        </p:grpSpPr>
        <p:sp>
          <p:nvSpPr>
            <p:cNvPr id="845" name=""/>
            <p:cNvSpPr/>
            <p:nvPr/>
          </p:nvSpPr>
          <p:spPr>
            <a:xfrm>
              <a:off x="5738760" y="1144440"/>
              <a:ext cx="1676520" cy="99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891040" y="1297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891040" y="1554120"/>
              <a:ext cx="45720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91040" y="1830240"/>
              <a:ext cx="457200" cy="0"/>
            </a:xfrm>
            <a:prstGeom prst="line">
              <a:avLst/>
            </a:prstGeom>
            <a:ln w="25560">
              <a:solidFill>
                <a:srgbClr val="008a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891040" y="1906560"/>
              <a:ext cx="457200" cy="0"/>
            </a:xfrm>
            <a:prstGeom prst="line">
              <a:avLst/>
            </a:prstGeom>
            <a:ln w="25560">
              <a:solidFill>
                <a:srgbClr val="ffe5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>
              <a:off x="6332400" y="1144440"/>
              <a:ext cx="601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 txBox="1"/>
            <p:nvPr/>
          </p:nvSpPr>
          <p:spPr>
            <a:xfrm>
              <a:off x="6332400" y="1400040"/>
              <a:ext cx="623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 txBox="1"/>
            <p:nvPr/>
          </p:nvSpPr>
          <p:spPr>
            <a:xfrm>
              <a:off x="6332400" y="1719360"/>
              <a:ext cx="906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857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 flipV="1">
            <a:off x="1927080" y="2287440"/>
            <a:ext cx="914400" cy="91440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3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4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5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6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7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8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881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425840" y="1449360"/>
            <a:ext cx="22273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itial Flood of Dat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Creation of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9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0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11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2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904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917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/>
          <p:nvPr/>
        </p:nvSpPr>
        <p:spPr>
          <a:xfrm flipV="1">
            <a:off x="1927080" y="2287440"/>
            <a:ext cx="914400" cy="91440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3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4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5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6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7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8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425840" y="1449360"/>
            <a:ext cx="2881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une to Non-RPF Neigh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2382840" y="2833560"/>
            <a:ext cx="76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9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" descr=""/>
          <p:cNvPicPr/>
          <p:nvPr/>
        </p:nvPicPr>
        <p:blipFill>
          <a:blip r:embed="rId10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 flipV="1">
            <a:off x="1927080" y="2490840"/>
            <a:ext cx="914400" cy="91440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11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2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966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979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1751040" y="3430440"/>
            <a:ext cx="0" cy="53352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351240" y="3430440"/>
            <a:ext cx="0" cy="53352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 flipV="1">
            <a:off x="1774800" y="2287440"/>
            <a:ext cx="106668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2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4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5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2" name="" descr=""/>
          <p:cNvPicPr/>
          <p:nvPr/>
        </p:nvPicPr>
        <p:blipFill>
          <a:blip r:embed="rId6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7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8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9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4425840" y="1449360"/>
            <a:ext cx="3141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 and D Assert to Determi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warder for the LAN, C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1913040" y="358128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ss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10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1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12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grpSp>
        <p:nvGrpSpPr>
          <p:cNvPr id="1028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1029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042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2460600" y="3963960"/>
            <a:ext cx="0" cy="30492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5584680" y="2421000"/>
            <a:ext cx="38124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584680" y="3633840"/>
            <a:ext cx="381240" cy="0"/>
          </a:xfrm>
          <a:prstGeom prst="line">
            <a:avLst/>
          </a:prstGeom>
          <a:ln w="25560">
            <a:solidFill>
              <a:srgbClr val="fafd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1774800" y="2287440"/>
            <a:ext cx="106668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689200" y="4243320"/>
            <a:ext cx="83808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689200" y="4395960"/>
            <a:ext cx="8380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2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3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5" name="" descr=""/>
          <p:cNvPicPr/>
          <p:nvPr/>
        </p:nvPicPr>
        <p:blipFill>
          <a:blip r:embed="rId4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6" name="" descr=""/>
          <p:cNvPicPr/>
          <p:nvPr/>
        </p:nvPicPr>
        <p:blipFill>
          <a:blip r:embed="rId5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7" name="" descr=""/>
          <p:cNvPicPr/>
          <p:nvPr/>
        </p:nvPicPr>
        <p:blipFill>
          <a:blip r:embed="rId6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8" name="" descr=""/>
          <p:cNvPicPr/>
          <p:nvPr/>
        </p:nvPicPr>
        <p:blipFill>
          <a:blip r:embed="rId7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8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070" name="" descr=""/>
          <p:cNvPicPr/>
          <p:nvPr/>
        </p:nvPicPr>
        <p:blipFill>
          <a:blip r:embed="rId9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071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425840" y="1449360"/>
            <a:ext cx="25099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Gets Pru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’s Prune is Ign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’s Prune is Overrid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2749680" y="3962520"/>
            <a:ext cx="855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5967360" y="3430440"/>
            <a:ext cx="1552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oin Over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6026040" y="2286000"/>
            <a:ext cx="76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0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" descr=""/>
          <p:cNvPicPr/>
          <p:nvPr/>
        </p:nvPicPr>
        <p:blipFill>
          <a:blip r:embed="rId11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2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grpSp>
        <p:nvGrpSpPr>
          <p:cNvPr id="1095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1096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109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26880" y="1365120"/>
            <a:ext cx="746748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Technology and Concep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Host-to-Router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Routing Protoc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rotocol Independent Multicast—PI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eneral Multicast Concep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liverab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42960" y="420840"/>
            <a:ext cx="18939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114" name=""/>
          <p:cNvSpPr/>
          <p:nvPr/>
        </p:nvSpPr>
        <p:spPr>
          <a:xfrm flipV="1">
            <a:off x="1774800" y="2287440"/>
            <a:ext cx="106668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960720" y="45734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427560" y="487836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689200" y="4243320"/>
            <a:ext cx="83808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689200" y="439596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2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29" name="" descr=""/>
          <p:cNvPicPr/>
          <p:nvPr/>
        </p:nvPicPr>
        <p:blipFill>
          <a:blip r:embed="rId3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4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5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6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7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34" name="" descr=""/>
          <p:cNvPicPr/>
          <p:nvPr/>
        </p:nvPicPr>
        <p:blipFill>
          <a:blip r:embed="rId8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9"/>
          <a:stretch/>
        </p:blipFill>
        <p:spPr>
          <a:xfrm>
            <a:off x="2868480" y="50547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10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222720" y="487836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2749680" y="3962520"/>
            <a:ext cx="669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587760" y="51814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11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2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3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 txBox="1"/>
          <p:nvPr/>
        </p:nvSpPr>
        <p:spPr>
          <a:xfrm>
            <a:off x="4425840" y="1449360"/>
            <a:ext cx="28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w Receiver, I Sends G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1359000" y="2330280"/>
            <a:ext cx="5135760" cy="2468880"/>
            <a:chOff x="1359000" y="2330280"/>
            <a:chExt cx="5135760" cy="2468880"/>
          </a:xfrm>
        </p:grpSpPr>
        <p:sp>
          <p:nvSpPr>
            <p:cNvPr id="1161" name=""/>
            <p:cNvSpPr txBox="1"/>
            <p:nvPr/>
          </p:nvSpPr>
          <p:spPr>
            <a:xfrm>
              <a:off x="2959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 txBox="1"/>
            <p:nvPr/>
          </p:nvSpPr>
          <p:spPr>
            <a:xfrm>
              <a:off x="38419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 txBox="1"/>
            <p:nvPr/>
          </p:nvSpPr>
          <p:spPr>
            <a:xfrm>
              <a:off x="29592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 txBox="1"/>
            <p:nvPr/>
          </p:nvSpPr>
          <p:spPr>
            <a:xfrm>
              <a:off x="13590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 txBox="1"/>
            <p:nvPr/>
          </p:nvSpPr>
          <p:spPr>
            <a:xfrm>
              <a:off x="1359000" y="233028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 txBox="1"/>
            <p:nvPr/>
          </p:nvSpPr>
          <p:spPr>
            <a:xfrm>
              <a:off x="212724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 txBox="1"/>
            <p:nvPr/>
          </p:nvSpPr>
          <p:spPr>
            <a:xfrm>
              <a:off x="6151680" y="278748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0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174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1871640" y="423216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 flipV="1">
            <a:off x="1774800" y="2287440"/>
            <a:ext cx="106668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5224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122640" y="1830240"/>
            <a:ext cx="0" cy="21337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222720" y="3354480"/>
            <a:ext cx="11430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975200" y="3354480"/>
            <a:ext cx="5335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499080" y="2801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323040" y="4116240"/>
            <a:ext cx="0" cy="3812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960720" y="46497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427560" y="49546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612880" y="4395960"/>
            <a:ext cx="990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155680" y="396396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165320" y="3963960"/>
            <a:ext cx="0" cy="838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642960" y="420840"/>
            <a:ext cx="58561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n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11095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270972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4"/>
          <a:stretch/>
        </p:blipFill>
        <p:spPr>
          <a:xfrm>
            <a:off x="4386240" y="3089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5" name="" descr=""/>
          <p:cNvPicPr/>
          <p:nvPr/>
        </p:nvPicPr>
        <p:blipFill>
          <a:blip r:embed="rId5"/>
          <a:stretch/>
        </p:blipFill>
        <p:spPr>
          <a:xfrm>
            <a:off x="5910120" y="256212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6" name="" descr=""/>
          <p:cNvPicPr/>
          <p:nvPr/>
        </p:nvPicPr>
        <p:blipFill>
          <a:blip r:embed="rId6"/>
          <a:stretch/>
        </p:blipFill>
        <p:spPr>
          <a:xfrm>
            <a:off x="5910120" y="369900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7" name="" descr=""/>
          <p:cNvPicPr/>
          <p:nvPr/>
        </p:nvPicPr>
        <p:blipFill>
          <a:blip r:embed="rId7"/>
          <a:stretch/>
        </p:blipFill>
        <p:spPr>
          <a:xfrm>
            <a:off x="3548160" y="4232160"/>
            <a:ext cx="825480" cy="479520"/>
          </a:xfrm>
          <a:prstGeom prst="rect">
            <a:avLst/>
          </a:prstGeom>
          <a:ln w="0">
            <a:noFill/>
          </a:ln>
        </p:spPr>
      </p:pic>
      <p:pic>
        <p:nvPicPr>
          <p:cNvPr id="1198" name="" descr=""/>
          <p:cNvPicPr/>
          <p:nvPr/>
        </p:nvPicPr>
        <p:blipFill>
          <a:blip r:embed="rId8"/>
          <a:stretch/>
        </p:blipFill>
        <p:spPr>
          <a:xfrm>
            <a:off x="582480" y="482616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9"/>
          <a:stretch/>
        </p:blipFill>
        <p:spPr>
          <a:xfrm>
            <a:off x="2868480" y="5207040"/>
            <a:ext cx="669960" cy="58572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/>
          <p:cNvPicPr/>
          <p:nvPr/>
        </p:nvPicPr>
        <p:blipFill>
          <a:blip r:embed="rId10"/>
          <a:stretch/>
        </p:blipFill>
        <p:spPr>
          <a:xfrm>
            <a:off x="5154480" y="4826160"/>
            <a:ext cx="669960" cy="585720"/>
          </a:xfrm>
          <a:prstGeom prst="rect">
            <a:avLst/>
          </a:prstGeom>
          <a:ln w="0">
            <a:noFill/>
          </a:ln>
        </p:spPr>
      </p:pic>
      <p:sp>
        <p:nvSpPr>
          <p:cNvPr id="1201" name=""/>
          <p:cNvSpPr/>
          <p:nvPr/>
        </p:nvSpPr>
        <p:spPr>
          <a:xfrm>
            <a:off x="1165320" y="1830240"/>
            <a:ext cx="2361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365200" y="1449360"/>
            <a:ext cx="0" cy="380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012680" y="396396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508720" y="236376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032600" y="2573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508720" y="272556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508720" y="3862440"/>
            <a:ext cx="38088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898880" y="44974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489640" y="4497480"/>
            <a:ext cx="0" cy="3045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222720" y="495468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2751120" y="10810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57974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3587760" y="51814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1227240" y="4952880"/>
            <a:ext cx="1201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5224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11"/>
          <a:stretch/>
        </p:blipFill>
        <p:spPr>
          <a:xfrm>
            <a:off x="11095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15224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122640" y="2440080"/>
            <a:ext cx="0" cy="6858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2"/>
          <a:stretch/>
        </p:blipFill>
        <p:spPr>
          <a:xfrm>
            <a:off x="2709720" y="209880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1220" name=""/>
          <p:cNvSpPr/>
          <p:nvPr/>
        </p:nvSpPr>
        <p:spPr>
          <a:xfrm>
            <a:off x="3122640" y="1830240"/>
            <a:ext cx="0" cy="3049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1" name="" descr=""/>
          <p:cNvPicPr/>
          <p:nvPr/>
        </p:nvPicPr>
        <p:blipFill>
          <a:blip r:embed="rId13"/>
          <a:stretch/>
        </p:blipFill>
        <p:spPr>
          <a:xfrm>
            <a:off x="2030400" y="955800"/>
            <a:ext cx="669960" cy="585720"/>
          </a:xfrm>
          <a:prstGeom prst="rect">
            <a:avLst/>
          </a:prstGeom>
          <a:ln w="0">
            <a:noFill/>
          </a:ln>
        </p:spPr>
      </p:pic>
      <p:grpSp>
        <p:nvGrpSpPr>
          <p:cNvPr id="1222" name=""/>
          <p:cNvGrpSpPr/>
          <p:nvPr/>
        </p:nvGrpSpPr>
        <p:grpSpPr>
          <a:xfrm>
            <a:off x="1357200" y="2328840"/>
            <a:ext cx="5137560" cy="2470320"/>
            <a:chOff x="1357200" y="2328840"/>
            <a:chExt cx="5137560" cy="2470320"/>
          </a:xfrm>
        </p:grpSpPr>
        <p:sp>
          <p:nvSpPr>
            <p:cNvPr id="1223" name=""/>
            <p:cNvSpPr txBox="1"/>
            <p:nvPr/>
          </p:nvSpPr>
          <p:spPr>
            <a:xfrm>
              <a:off x="29574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 txBox="1"/>
            <p:nvPr/>
          </p:nvSpPr>
          <p:spPr>
            <a:xfrm>
              <a:off x="4645080" y="331956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 txBox="1"/>
            <p:nvPr/>
          </p:nvSpPr>
          <p:spPr>
            <a:xfrm>
              <a:off x="3840120" y="4462560"/>
              <a:ext cx="24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 txBox="1"/>
            <p:nvPr/>
          </p:nvSpPr>
          <p:spPr>
            <a:xfrm>
              <a:off x="2957400" y="23288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 txBox="1"/>
            <p:nvPr/>
          </p:nvSpPr>
          <p:spPr>
            <a:xfrm>
              <a:off x="1357200" y="331956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 txBox="1"/>
            <p:nvPr/>
          </p:nvSpPr>
          <p:spPr>
            <a:xfrm>
              <a:off x="1357200" y="23288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 txBox="1"/>
            <p:nvPr/>
          </p:nvSpPr>
          <p:spPr>
            <a:xfrm>
              <a:off x="2125800" y="446256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 txBox="1"/>
            <p:nvPr/>
          </p:nvSpPr>
          <p:spPr>
            <a:xfrm>
              <a:off x="6151680" y="278604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 txBox="1"/>
            <p:nvPr/>
          </p:nvSpPr>
          <p:spPr>
            <a:xfrm>
              <a:off x="6157800" y="392904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236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 txBox="1"/>
          <p:nvPr/>
        </p:nvSpPr>
        <p:spPr>
          <a:xfrm>
            <a:off x="237960" y="1042920"/>
            <a:ext cx="76453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icit joi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rs join to the Rendezvous Point (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ers register with the 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flows down the shared tree and goes on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laces that need the data from the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st hop routers can join source tree if the data rate warrants by sending joins to the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PF check for the shared tree uses the 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PF check for the source tre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s th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642960" y="420840"/>
            <a:ext cx="40273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 txBox="1"/>
          <p:nvPr/>
        </p:nvSpPr>
        <p:spPr>
          <a:xfrm>
            <a:off x="326880" y="1484280"/>
            <a:ext cx="7467480" cy="35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one RP is chosen for a particula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P statically configured or dynamically learned (Auto-RP, PIM v2 candidate RP advertis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forwarded based on the source state (S, G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it exists, otherwise use the shared state (*,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ft: draft-ietf-idmr-pim-sm-spec-10.tx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oon to be R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ft: draft-ietf-idmr-pim-arch-04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642960" y="420840"/>
            <a:ext cx="40273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3011400" y="2782800"/>
            <a:ext cx="1557360" cy="952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257" name=""/>
          <p:cNvSpPr/>
          <p:nvPr/>
        </p:nvSpPr>
        <p:spPr>
          <a:xfrm>
            <a:off x="2801880" y="3887640"/>
            <a:ext cx="0" cy="622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284560" y="21477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6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269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270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271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272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/>
          <p:nvPr/>
        </p:nvSpPr>
        <p:spPr>
          <a:xfrm flipV="1">
            <a:off x="2573280" y="4540320"/>
            <a:ext cx="0" cy="49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4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275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276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5738760" y="1144440"/>
            <a:ext cx="1676520" cy="990720"/>
            <a:chOff x="5738760" y="1144440"/>
            <a:chExt cx="1676520" cy="990720"/>
          </a:xfrm>
        </p:grpSpPr>
        <p:sp>
          <p:nvSpPr>
            <p:cNvPr id="1278" name=""/>
            <p:cNvSpPr/>
            <p:nvPr/>
          </p:nvSpPr>
          <p:spPr>
            <a:xfrm>
              <a:off x="5738760" y="1144440"/>
              <a:ext cx="1676520" cy="99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91040" y="1297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891040" y="1554120"/>
              <a:ext cx="457200" cy="0"/>
            </a:xfrm>
            <a:prstGeom prst="line">
              <a:avLst/>
            </a:prstGeom>
            <a:ln w="25560">
              <a:solidFill>
                <a:srgbClr val="cf0e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891040" y="1830240"/>
              <a:ext cx="457200" cy="0"/>
            </a:xfrm>
            <a:prstGeom prst="line">
              <a:avLst/>
            </a:prstGeom>
            <a:ln w="25560">
              <a:solidFill>
                <a:srgbClr val="008a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91040" y="1906560"/>
              <a:ext cx="457200" cy="0"/>
            </a:xfrm>
            <a:prstGeom prst="line">
              <a:avLst/>
            </a:prstGeom>
            <a:ln w="25560">
              <a:solidFill>
                <a:srgbClr val="ffe5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 txBox="1"/>
            <p:nvPr/>
          </p:nvSpPr>
          <p:spPr>
            <a:xfrm>
              <a:off x="6332400" y="1144440"/>
              <a:ext cx="601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 txBox="1"/>
            <p:nvPr/>
          </p:nvSpPr>
          <p:spPr>
            <a:xfrm>
              <a:off x="6332400" y="1400040"/>
              <a:ext cx="623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 txBox="1"/>
            <p:nvPr/>
          </p:nvSpPr>
          <p:spPr>
            <a:xfrm>
              <a:off x="6332400" y="1719360"/>
              <a:ext cx="906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4314960" y="1123920"/>
            <a:ext cx="27176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 Joins Group 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 Creates (*, G) State, Send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*, G) Join to the 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3011400" y="2782800"/>
            <a:ext cx="1557360" cy="952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284560" y="21477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9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310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1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12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13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15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16" name=""/>
          <p:cNvSpPr/>
          <p:nvPr/>
        </p:nvSpPr>
        <p:spPr>
          <a:xfrm flipV="1">
            <a:off x="2573280" y="4540320"/>
            <a:ext cx="0" cy="49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7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18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19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3197160" y="3013200"/>
            <a:ext cx="1244520" cy="76032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4043520" y="3327480"/>
            <a:ext cx="5270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 txBox="1"/>
          <p:nvPr/>
        </p:nvSpPr>
        <p:spPr>
          <a:xfrm>
            <a:off x="4314960" y="1123920"/>
            <a:ext cx="2108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 Creates (*, G)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37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284560" y="2147760"/>
            <a:ext cx="0" cy="596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6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347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8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49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50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51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52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53" name=""/>
          <p:cNvSpPr/>
          <p:nvPr/>
        </p:nvSpPr>
        <p:spPr>
          <a:xfrm flipV="1">
            <a:off x="2573280" y="4540320"/>
            <a:ext cx="0" cy="49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4314960" y="1123920"/>
            <a:ext cx="26416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Sends Dat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 Sends Registers to the 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0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0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381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83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84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385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86" name=""/>
          <p:cNvSpPr txBox="1"/>
          <p:nvPr/>
        </p:nvSpPr>
        <p:spPr>
          <a:xfrm>
            <a:off x="3048120" y="1962000"/>
            <a:ext cx="873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308320" y="2287440"/>
            <a:ext cx="2210040" cy="457560"/>
          </a:xfrm>
          <a:custGeom>
            <a:avLst/>
            <a:gdLst/>
            <a:ahLst/>
            <a:rect l="0" t="0" r="r" b="b"/>
            <a:pathLst>
              <a:path fill="none" w="6139" h="1271">
                <a:moveTo>
                  <a:pt x="6139" y="847"/>
                </a:moveTo>
                <a:lnTo>
                  <a:pt x="5292" y="0"/>
                </a:lnTo>
                <a:lnTo>
                  <a:pt x="1270" y="0"/>
                </a:lnTo>
                <a:lnTo>
                  <a:pt x="0" y="1271"/>
                </a:lnTo>
              </a:path>
            </a:pathLst>
          </a:custGeom>
          <a:ln w="25560">
            <a:solidFill>
              <a:srgbClr val="008aae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389" name=""/>
          <p:cNvSpPr/>
          <p:nvPr/>
        </p:nvSpPr>
        <p:spPr>
          <a:xfrm flipV="1">
            <a:off x="2573280" y="4540320"/>
            <a:ext cx="0" cy="490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0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391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4314960" y="1123920"/>
            <a:ext cx="34034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 De-Encapsulates Register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wards Data Down the Shared Tr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Joins Towards the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6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07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6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17" name="" descr=""/>
          <p:cNvPicPr/>
          <p:nvPr/>
        </p:nvPicPr>
        <p:blipFill>
          <a:blip r:embed="rId3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9" name="" descr=""/>
          <p:cNvPicPr/>
          <p:nvPr/>
        </p:nvPicPr>
        <p:blipFill>
          <a:blip r:embed="rId4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20" name="" descr=""/>
          <p:cNvPicPr/>
          <p:nvPr/>
        </p:nvPicPr>
        <p:blipFill>
          <a:blip r:embed="rId5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21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22" name="" descr=""/>
          <p:cNvPicPr/>
          <p:nvPr/>
        </p:nvPicPr>
        <p:blipFill>
          <a:blip r:embed="rId7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23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2579760" y="2676600"/>
            <a:ext cx="69372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5" name="" descr=""/>
          <p:cNvPicPr/>
          <p:nvPr/>
        </p:nvPicPr>
        <p:blipFill>
          <a:blip r:embed="rId8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3722760" y="2676600"/>
            <a:ext cx="69372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7" name="" descr=""/>
          <p:cNvPicPr/>
          <p:nvPr/>
        </p:nvPicPr>
        <p:blipFill>
          <a:blip r:embed="rId9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28" name=""/>
          <p:cNvSpPr txBox="1"/>
          <p:nvPr/>
        </p:nvSpPr>
        <p:spPr>
          <a:xfrm>
            <a:off x="2841480" y="2343240"/>
            <a:ext cx="5270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3906720" y="2343240"/>
            <a:ext cx="5270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6348240" y="25160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4314960" y="1123920"/>
            <a:ext cx="27176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 Sends Register-Stop Onc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rrives Nativ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2" name="" descr=""/>
          <p:cNvPicPr/>
          <p:nvPr/>
        </p:nvPicPr>
        <p:blipFill>
          <a:blip r:embed="rId1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53" name="" descr=""/>
          <p:cNvPicPr/>
          <p:nvPr/>
        </p:nvPicPr>
        <p:blipFill>
          <a:blip r:embed="rId2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454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5" name="" descr=""/>
          <p:cNvPicPr/>
          <p:nvPr/>
        </p:nvPicPr>
        <p:blipFill>
          <a:blip r:embed="rId3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56" name="" descr=""/>
          <p:cNvPicPr/>
          <p:nvPr/>
        </p:nvPicPr>
        <p:blipFill>
          <a:blip r:embed="rId4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57" name="" descr=""/>
          <p:cNvPicPr/>
          <p:nvPr/>
        </p:nvPicPr>
        <p:blipFill>
          <a:blip r:embed="rId5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58" name="" descr=""/>
          <p:cNvPicPr/>
          <p:nvPr/>
        </p:nvPicPr>
        <p:blipFill>
          <a:blip r:embed="rId6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59" name="" descr=""/>
          <p:cNvPicPr/>
          <p:nvPr/>
        </p:nvPicPr>
        <p:blipFill>
          <a:blip r:embed="rId7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60" name=""/>
          <p:cNvSpPr txBox="1"/>
          <p:nvPr/>
        </p:nvSpPr>
        <p:spPr>
          <a:xfrm>
            <a:off x="2820960" y="1962000"/>
            <a:ext cx="13273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-S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2460600" y="2287440"/>
            <a:ext cx="2210040" cy="457560"/>
          </a:xfrm>
          <a:custGeom>
            <a:avLst/>
            <a:gdLst/>
            <a:ahLst/>
            <a:rect l="0" t="0" r="r" b="b"/>
            <a:pathLst>
              <a:path fill="none" w="6139" h="1271">
                <a:moveTo>
                  <a:pt x="6139" y="1271"/>
                </a:moveTo>
                <a:lnTo>
                  <a:pt x="4869" y="0"/>
                </a:lnTo>
                <a:lnTo>
                  <a:pt x="846" y="0"/>
                </a:lnTo>
                <a:lnTo>
                  <a:pt x="0" y="847"/>
                </a:lnTo>
              </a:path>
            </a:pathLst>
          </a:custGeom>
          <a:ln w="25560">
            <a:solidFill>
              <a:srgbClr val="008aae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2" name="" descr=""/>
          <p:cNvPicPr/>
          <p:nvPr/>
        </p:nvPicPr>
        <p:blipFill>
          <a:blip r:embed="rId8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63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614680" y="2820960"/>
            <a:ext cx="4572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757680" y="2820960"/>
            <a:ext cx="4572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4900680" y="2820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891040" y="2820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8" name="" descr=""/>
          <p:cNvPicPr/>
          <p:nvPr/>
        </p:nvPicPr>
        <p:blipFill>
          <a:blip r:embed="rId9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784080" y="1152360"/>
            <a:ext cx="655308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y multica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sending same data to multiple rece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er bandwidth uti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sser host/router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rs’ addresses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deo/audio confer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discovery/service adverti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ock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g. Vat, Vic, IP/TV, Point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42960" y="420840"/>
            <a:ext cx="55515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roduction to Multic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2143080" y="2897280"/>
            <a:ext cx="749520" cy="749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4314960" y="1123920"/>
            <a:ext cx="287028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 Sends (S, G) Joins to Join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ortest Path (SPT)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484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4" name="" descr=""/>
          <p:cNvPicPr/>
          <p:nvPr/>
        </p:nvPicPr>
        <p:blipFill>
          <a:blip r:embed="rId2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95" name="" descr=""/>
          <p:cNvPicPr/>
          <p:nvPr/>
        </p:nvPicPr>
        <p:blipFill>
          <a:blip r:embed="rId3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496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7" name="" descr=""/>
          <p:cNvPicPr/>
          <p:nvPr/>
        </p:nvPicPr>
        <p:blipFill>
          <a:blip r:embed="rId4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498" name="" descr=""/>
          <p:cNvPicPr/>
          <p:nvPr/>
        </p:nvPicPr>
        <p:blipFill>
          <a:blip r:embed="rId5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499" name="" descr=""/>
          <p:cNvPicPr/>
          <p:nvPr/>
        </p:nvPicPr>
        <p:blipFill>
          <a:blip r:embed="rId6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00" name=""/>
          <p:cNvSpPr/>
          <p:nvPr/>
        </p:nvSpPr>
        <p:spPr>
          <a:xfrm>
            <a:off x="3595680" y="27907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1" name="" descr=""/>
          <p:cNvPicPr/>
          <p:nvPr/>
        </p:nvPicPr>
        <p:blipFill>
          <a:blip r:embed="rId7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02" name=""/>
          <p:cNvSpPr/>
          <p:nvPr/>
        </p:nvSpPr>
        <p:spPr>
          <a:xfrm>
            <a:off x="2452680" y="27907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3" name="" descr=""/>
          <p:cNvPicPr/>
          <p:nvPr/>
        </p:nvPicPr>
        <p:blipFill>
          <a:blip r:embed="rId8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04" name=""/>
          <p:cNvSpPr/>
          <p:nvPr/>
        </p:nvSpPr>
        <p:spPr>
          <a:xfrm>
            <a:off x="1914480" y="2973240"/>
            <a:ext cx="673200" cy="67320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5" name="" descr=""/>
          <p:cNvPicPr/>
          <p:nvPr/>
        </p:nvPicPr>
        <p:blipFill>
          <a:blip r:embed="rId9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06" name=""/>
          <p:cNvSpPr txBox="1"/>
          <p:nvPr/>
        </p:nvSpPr>
        <p:spPr>
          <a:xfrm>
            <a:off x="1360440" y="34844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, G) 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143080" y="2897280"/>
            <a:ext cx="622440" cy="622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579760" y="2676600"/>
            <a:ext cx="69372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4314960" y="1123920"/>
            <a:ext cx="340344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hen C Receives Data Natively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Sends Prunes Up the RP tree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Source. RP Deletes (S, G) OIF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ds Prune Towards the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3" name="" descr=""/>
          <p:cNvPicPr/>
          <p:nvPr/>
        </p:nvPicPr>
        <p:blipFill>
          <a:blip r:embed="rId2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34" name="" descr=""/>
          <p:cNvPicPr/>
          <p:nvPr/>
        </p:nvPicPr>
        <p:blipFill>
          <a:blip r:embed="rId3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535" name="" descr=""/>
          <p:cNvPicPr/>
          <p:nvPr/>
        </p:nvPicPr>
        <p:blipFill>
          <a:blip r:embed="rId4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536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" descr=""/>
          <p:cNvPicPr/>
          <p:nvPr/>
        </p:nvPicPr>
        <p:blipFill>
          <a:blip r:embed="rId5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538" name="" descr=""/>
          <p:cNvPicPr/>
          <p:nvPr/>
        </p:nvPicPr>
        <p:blipFill>
          <a:blip r:embed="rId6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39" name=""/>
          <p:cNvSpPr/>
          <p:nvPr/>
        </p:nvSpPr>
        <p:spPr>
          <a:xfrm flipV="1">
            <a:off x="3197160" y="3013200"/>
            <a:ext cx="1244520" cy="760320"/>
          </a:xfrm>
          <a:prstGeom prst="line">
            <a:avLst/>
          </a:prstGeom>
          <a:ln w="25560">
            <a:solidFill>
              <a:srgbClr val="008a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3956040" y="3327480"/>
            <a:ext cx="17715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, G) RP Bit Pr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3722760" y="2676600"/>
            <a:ext cx="69372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2" name="" descr=""/>
          <p:cNvPicPr/>
          <p:nvPr/>
        </p:nvPicPr>
        <p:blipFill>
          <a:blip r:embed="rId7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43" name=""/>
          <p:cNvSpPr/>
          <p:nvPr/>
        </p:nvSpPr>
        <p:spPr>
          <a:xfrm>
            <a:off x="3595680" y="27907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4" name="" descr=""/>
          <p:cNvPicPr/>
          <p:nvPr/>
        </p:nvPicPr>
        <p:blipFill>
          <a:blip r:embed="rId8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45" name=""/>
          <p:cNvSpPr/>
          <p:nvPr/>
        </p:nvSpPr>
        <p:spPr>
          <a:xfrm>
            <a:off x="2452680" y="2790720"/>
            <a:ext cx="69372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" descr=""/>
          <p:cNvPicPr/>
          <p:nvPr/>
        </p:nvPicPr>
        <p:blipFill>
          <a:blip r:embed="rId9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47" name=""/>
          <p:cNvSpPr txBox="1"/>
          <p:nvPr/>
        </p:nvSpPr>
        <p:spPr>
          <a:xfrm>
            <a:off x="2851200" y="2287440"/>
            <a:ext cx="11890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, G) Pr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4314960" y="1123920"/>
            <a:ext cx="34034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w Receiver 2 Jo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 Creates State and Sends (*, G) 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2143080" y="2897280"/>
            <a:ext cx="622440" cy="622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2" name="" descr=""/>
          <p:cNvPicPr/>
          <p:nvPr/>
        </p:nvPicPr>
        <p:blipFill>
          <a:blip r:embed="rId1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63" name="" descr=""/>
          <p:cNvPicPr/>
          <p:nvPr/>
        </p:nvPicPr>
        <p:blipFill>
          <a:blip r:embed="rId2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64" name="" descr=""/>
          <p:cNvPicPr/>
          <p:nvPr/>
        </p:nvPicPr>
        <p:blipFill>
          <a:blip r:embed="rId3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65" name="" descr=""/>
          <p:cNvPicPr/>
          <p:nvPr/>
        </p:nvPicPr>
        <p:blipFill>
          <a:blip r:embed="rId4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66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2790720" y="3938760"/>
            <a:ext cx="165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6" name="" descr=""/>
          <p:cNvPicPr/>
          <p:nvPr/>
        </p:nvPicPr>
        <p:blipFill>
          <a:blip r:embed="rId5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77" name="" descr=""/>
          <p:cNvPicPr/>
          <p:nvPr/>
        </p:nvPicPr>
        <p:blipFill>
          <a:blip r:embed="rId6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578" name="" descr=""/>
          <p:cNvPicPr/>
          <p:nvPr/>
        </p:nvPicPr>
        <p:blipFill>
          <a:blip r:embed="rId7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579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0" name="" descr=""/>
          <p:cNvPicPr/>
          <p:nvPr/>
        </p:nvPicPr>
        <p:blipFill>
          <a:blip r:embed="rId8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581" name=""/>
          <p:cNvSpPr/>
          <p:nvPr/>
        </p:nvSpPr>
        <p:spPr>
          <a:xfrm>
            <a:off x="3146400" y="3786120"/>
            <a:ext cx="1295280" cy="0"/>
          </a:xfrm>
          <a:prstGeom prst="line">
            <a:avLst/>
          </a:prstGeom>
          <a:ln w="25560">
            <a:solidFill>
              <a:srgbClr val="008a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2" name="" descr=""/>
          <p:cNvPicPr/>
          <p:nvPr/>
        </p:nvPicPr>
        <p:blipFill>
          <a:blip r:embed="rId9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583" name=""/>
          <p:cNvSpPr txBox="1"/>
          <p:nvPr/>
        </p:nvSpPr>
        <p:spPr>
          <a:xfrm>
            <a:off x="3502080" y="3403440"/>
            <a:ext cx="10018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*, G) 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4314960" y="1123920"/>
            <a:ext cx="340344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 Adds Link Towards E to the OI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st of Both (*, G) and (S, G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from Source Arrives at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2143080" y="2897280"/>
            <a:ext cx="622440" cy="622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" descr=""/>
          <p:cNvPicPr/>
          <p:nvPr/>
        </p:nvPicPr>
        <p:blipFill>
          <a:blip r:embed="rId1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599" name="" descr=""/>
          <p:cNvPicPr/>
          <p:nvPr/>
        </p:nvPicPr>
        <p:blipFill>
          <a:blip r:embed="rId2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00" name="" descr=""/>
          <p:cNvPicPr/>
          <p:nvPr/>
        </p:nvPicPr>
        <p:blipFill>
          <a:blip r:embed="rId3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01" name="" descr=""/>
          <p:cNvPicPr/>
          <p:nvPr/>
        </p:nvPicPr>
        <p:blipFill>
          <a:blip r:embed="rId4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602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2790720" y="3938760"/>
            <a:ext cx="1371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5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13" name="" descr=""/>
          <p:cNvPicPr/>
          <p:nvPr/>
        </p:nvPicPr>
        <p:blipFill>
          <a:blip r:embed="rId6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14" name="" descr=""/>
          <p:cNvPicPr/>
          <p:nvPr/>
        </p:nvPicPr>
        <p:blipFill>
          <a:blip r:embed="rId7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8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616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7" name="" descr=""/>
          <p:cNvPicPr/>
          <p:nvPr/>
        </p:nvPicPr>
        <p:blipFill>
          <a:blip r:embed="rId9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642960" y="420840"/>
            <a:ext cx="60087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arse Mode PI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376360" y="2790720"/>
            <a:ext cx="3945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296388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284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4775040" y="4241880"/>
            <a:ext cx="2811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6319800" y="256068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236844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21416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4365720" y="3052800"/>
            <a:ext cx="40968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5568840" y="303840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2341440" y="1214280"/>
            <a:ext cx="765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4314960" y="1123920"/>
            <a:ext cx="340344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w Source Starts Send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 Sends Registers, RP Sends Joi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P Forwards Data to Receiver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rough Shared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143080" y="2897280"/>
            <a:ext cx="622440" cy="6220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 flipV="1">
            <a:off x="3197160" y="2782800"/>
            <a:ext cx="1371600" cy="838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" descr=""/>
          <p:cNvPicPr/>
          <p:nvPr/>
        </p:nvPicPr>
        <p:blipFill>
          <a:blip r:embed="rId1"/>
          <a:stretch/>
        </p:blipFill>
        <p:spPr>
          <a:xfrm>
            <a:off x="1955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33" name="" descr=""/>
          <p:cNvPicPr/>
          <p:nvPr/>
        </p:nvPicPr>
        <p:blipFill>
          <a:blip r:embed="rId2"/>
          <a:stretch/>
        </p:blipFill>
        <p:spPr>
          <a:xfrm>
            <a:off x="3098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34" name="" descr=""/>
          <p:cNvPicPr/>
          <p:nvPr/>
        </p:nvPicPr>
        <p:blipFill>
          <a:blip r:embed="rId3"/>
          <a:stretch/>
        </p:blipFill>
        <p:spPr>
          <a:xfrm>
            <a:off x="4241880" y="2600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35" name="" descr=""/>
          <p:cNvPicPr/>
          <p:nvPr/>
        </p:nvPicPr>
        <p:blipFill>
          <a:blip r:embed="rId4"/>
          <a:stretch/>
        </p:blipFill>
        <p:spPr>
          <a:xfrm>
            <a:off x="5384880" y="2600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636" name=""/>
          <p:cNvSpPr/>
          <p:nvPr/>
        </p:nvSpPr>
        <p:spPr>
          <a:xfrm>
            <a:off x="280188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2790720" y="3938760"/>
            <a:ext cx="1371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1984320" y="160164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2284560" y="2147760"/>
            <a:ext cx="0" cy="44460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1603440" y="2146320"/>
            <a:ext cx="1135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133880" y="4530600"/>
            <a:ext cx="866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257328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 flipV="1">
            <a:off x="4795920" y="4540320"/>
            <a:ext cx="0" cy="414360"/>
          </a:xfrm>
          <a:prstGeom prst="line">
            <a:avLst/>
          </a:prstGeom>
          <a:ln w="25560">
            <a:solidFill>
              <a:srgbClr val="cf0e3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4567320" y="3976560"/>
            <a:ext cx="0" cy="53352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2981160" y="4241880"/>
            <a:ext cx="29052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" descr=""/>
          <p:cNvPicPr/>
          <p:nvPr/>
        </p:nvPicPr>
        <p:blipFill>
          <a:blip r:embed="rId5"/>
          <a:stretch/>
        </p:blipFill>
        <p:spPr>
          <a:xfrm>
            <a:off x="2473200" y="3608280"/>
            <a:ext cx="657360" cy="380880"/>
          </a:xfrm>
          <a:prstGeom prst="rect">
            <a:avLst/>
          </a:prstGeom>
          <a:ln w="0">
            <a:noFill/>
          </a:ln>
        </p:spPr>
      </p:pic>
      <p:pic>
        <p:nvPicPr>
          <p:cNvPr id="1647" name="" descr=""/>
          <p:cNvPicPr/>
          <p:nvPr/>
        </p:nvPicPr>
        <p:blipFill>
          <a:blip r:embed="rId6"/>
          <a:stretch/>
        </p:blipFill>
        <p:spPr>
          <a:xfrm>
            <a:off x="4238640" y="3608280"/>
            <a:ext cx="657360" cy="380880"/>
          </a:xfrm>
          <a:prstGeom prst="rect">
            <a:avLst/>
          </a:prstGeom>
          <a:ln w="0">
            <a:noFill/>
          </a:ln>
        </p:spPr>
      </p:pic>
      <p:sp>
        <p:nvSpPr>
          <p:cNvPr id="1648" name=""/>
          <p:cNvSpPr/>
          <p:nvPr/>
        </p:nvSpPr>
        <p:spPr>
          <a:xfrm>
            <a:off x="6321600" y="2654280"/>
            <a:ext cx="507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9" name="" descr=""/>
          <p:cNvPicPr/>
          <p:nvPr/>
        </p:nvPicPr>
        <p:blipFill>
          <a:blip r:embed="rId7"/>
          <a:stretch/>
        </p:blipFill>
        <p:spPr>
          <a:xfrm>
            <a:off x="6689880" y="237168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650" name="" descr=""/>
          <p:cNvPicPr/>
          <p:nvPr/>
        </p:nvPicPr>
        <p:blipFill>
          <a:blip r:embed="rId8"/>
          <a:stretch/>
        </p:blipFill>
        <p:spPr>
          <a:xfrm>
            <a:off x="1660680" y="1076400"/>
            <a:ext cx="647640" cy="566640"/>
          </a:xfrm>
          <a:prstGeom prst="rect">
            <a:avLst/>
          </a:prstGeom>
          <a:ln w="0">
            <a:noFill/>
          </a:ln>
        </p:spPr>
      </p:pic>
      <p:pic>
        <p:nvPicPr>
          <p:cNvPr id="1651" name="" descr=""/>
          <p:cNvPicPr/>
          <p:nvPr/>
        </p:nvPicPr>
        <p:blipFill>
          <a:blip r:embed="rId9"/>
          <a:stretch/>
        </p:blipFill>
        <p:spPr>
          <a:xfrm>
            <a:off x="227016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652" name=""/>
          <p:cNvSpPr txBox="1"/>
          <p:nvPr/>
        </p:nvSpPr>
        <p:spPr>
          <a:xfrm>
            <a:off x="5172120" y="5099040"/>
            <a:ext cx="105084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ei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3" name="" descr=""/>
          <p:cNvPicPr/>
          <p:nvPr/>
        </p:nvPicPr>
        <p:blipFill>
          <a:blip r:embed="rId10"/>
          <a:stretch/>
        </p:blipFill>
        <p:spPr>
          <a:xfrm>
            <a:off x="4479840" y="4962600"/>
            <a:ext cx="647640" cy="566640"/>
          </a:xfrm>
          <a:prstGeom prst="rect">
            <a:avLst/>
          </a:prstGeom>
          <a:ln w="0">
            <a:noFill/>
          </a:ln>
        </p:spPr>
      </p:pic>
      <p:sp>
        <p:nvSpPr>
          <p:cNvPr id="1654" name=""/>
          <p:cNvSpPr txBox="1"/>
          <p:nvPr/>
        </p:nvSpPr>
        <p:spPr>
          <a:xfrm>
            <a:off x="6532560" y="2951280"/>
            <a:ext cx="91296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5865840" y="2190600"/>
            <a:ext cx="873000" cy="2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4137120" y="2363760"/>
            <a:ext cx="2057760" cy="305280"/>
          </a:xfrm>
          <a:custGeom>
            <a:avLst/>
            <a:gdLst/>
            <a:ahLst/>
            <a:rect l="0" t="0" r="r" b="b"/>
            <a:pathLst>
              <a:path fill="none" w="5716" h="848">
                <a:moveTo>
                  <a:pt x="5716" y="848"/>
                </a:moveTo>
                <a:lnTo>
                  <a:pt x="4869" y="0"/>
                </a:lnTo>
                <a:lnTo>
                  <a:pt x="846" y="0"/>
                </a:lnTo>
                <a:lnTo>
                  <a:pt x="0" y="848"/>
                </a:lnTo>
              </a:path>
            </a:pathLst>
          </a:custGeom>
          <a:ln w="25560">
            <a:solidFill>
              <a:srgbClr val="008aae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 txBox="1"/>
          <p:nvPr/>
        </p:nvSpPr>
        <p:spPr>
          <a:xfrm>
            <a:off x="404640" y="1427040"/>
            <a:ext cx="731196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TL scop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keep multicast traffic within an administrative domain by setting ttl thresholds on interfaces on the border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dministratively scoped addr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ulticast boundary can be setu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the borders for addresses in ran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239.0.0.0–239.255.255.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ter than ttl scoping (pruning, solid w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642960" y="174600"/>
            <a:ext cx="539892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Scop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7655040" y="5889600"/>
            <a:ext cx="2588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3232080" y="5842080"/>
            <a:ext cx="166680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isco Systems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100080" y="5889600"/>
            <a:ext cx="824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810_04F7_c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-1440" y="0"/>
            <a:ext cx="594000" cy="865440"/>
            <a:chOff x="-1440" y="0"/>
            <a:chExt cx="594000" cy="865440"/>
          </a:xfrm>
        </p:grpSpPr>
        <p:sp>
          <p:nvSpPr>
            <p:cNvPr id="1663" name=""/>
            <p:cNvSpPr/>
            <p:nvPr/>
          </p:nvSpPr>
          <p:spPr>
            <a:xfrm>
              <a:off x="-1440" y="0"/>
              <a:ext cx="593640" cy="63972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-1440" y="414360"/>
              <a:ext cx="593640" cy="4507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H="1">
              <a:off x="-1440" y="414360"/>
              <a:ext cx="59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-1440" y="0"/>
              <a:ext cx="594000" cy="865440"/>
            </a:xfrm>
            <a:custGeom>
              <a:avLst/>
              <a:gdLst/>
              <a:ahLst/>
              <a:rect l="0" t="0" r="r" b="b"/>
              <a:pathLst>
                <a:path fill="none" w="1650" h="2404">
                  <a:moveTo>
                    <a:pt x="0" y="2404"/>
                  </a:moveTo>
                  <a:lnTo>
                    <a:pt x="1650" y="2404"/>
                  </a:lnTo>
                  <a:lnTo>
                    <a:pt x="165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"/>
          <p:cNvSpPr txBox="1"/>
          <p:nvPr/>
        </p:nvSpPr>
        <p:spPr>
          <a:xfrm>
            <a:off x="1089000" y="1203480"/>
            <a:ext cx="594360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ulticast rate lim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 the rate at which a send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send traffic to a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put and output rate-limit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ource-tree thresho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PIM-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witch to SPT tree, if rate exceed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red tree saves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642960" y="420840"/>
            <a:ext cx="433224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 txBox="1"/>
          <p:nvPr/>
        </p:nvSpPr>
        <p:spPr>
          <a:xfrm>
            <a:off x="860400" y="1709640"/>
            <a:ext cx="640080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for differen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ulticast protoco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IM/DVMRP interoper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action between PIM SM/DM region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DVMRP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BONE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IM-SM/PIM-DM interoper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P has to be the border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642960" y="174600"/>
            <a:ext cx="62373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order Router Functi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"/>
          <p:cNvSpPr txBox="1"/>
          <p:nvPr/>
        </p:nvSpPr>
        <p:spPr>
          <a:xfrm>
            <a:off x="631800" y="1511280"/>
            <a:ext cx="6858000" cy="36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ation of Ethernet bridges/swit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1825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ward all multicast traffic to all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rov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1825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goes to segments with routers and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rt suppression per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18252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GMP (Cisco Group Management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sco routers tell switches abou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/member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itches do not snoop into IGMP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642960" y="174600"/>
            <a:ext cx="578016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ulticast Feature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Multicast and Swit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"/>
          <p:cNvSpPr txBox="1"/>
          <p:nvPr/>
        </p:nvSpPr>
        <p:spPr>
          <a:xfrm>
            <a:off x="631800" y="1365120"/>
            <a:ext cx="68580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fastswitching/fastdr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rate lim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P Multicast static rou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trace/mrinfo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IM NBMA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IM SPT threshol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642960" y="420840"/>
            <a:ext cx="55515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isco Deliverables (11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642960" y="420840"/>
            <a:ext cx="39513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cast/Multic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42960" y="211464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78000" y="2724120"/>
            <a:ext cx="920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394320" y="1568520"/>
            <a:ext cx="128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5691240" y="1560600"/>
            <a:ext cx="673200" cy="58896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4861080" y="19018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795920" y="207324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300560" y="164448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 flipV="1">
            <a:off x="3825720" y="2060640"/>
            <a:ext cx="522360" cy="5223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95920" y="31939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4362480" y="919080"/>
            <a:ext cx="673200" cy="5904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 flipV="1">
            <a:off x="4049640" y="2135160"/>
            <a:ext cx="522360" cy="29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1733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34960" y="2322360"/>
            <a:ext cx="82260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2630520" y="1238400"/>
            <a:ext cx="522360" cy="522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779560" y="1387440"/>
            <a:ext cx="447840" cy="4478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3773520" y="1889280"/>
            <a:ext cx="522360" cy="523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525840" y="12016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551400" y="135108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51200" y="2359080"/>
            <a:ext cx="522360" cy="522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76680" y="250812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5691240" y="2700360"/>
            <a:ext cx="673200" cy="5904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5"/>
          <a:stretch/>
        </p:blipFill>
        <p:spPr>
          <a:xfrm>
            <a:off x="3138480" y="982800"/>
            <a:ext cx="793800" cy="4604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6"/>
          <a:stretch/>
        </p:blipFill>
        <p:spPr>
          <a:xfrm>
            <a:off x="3139920" y="225252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2630520" y="1835280"/>
            <a:ext cx="522360" cy="523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56000" y="198612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556000" y="220968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7"/>
          <a:stretch/>
        </p:blipFill>
        <p:spPr>
          <a:xfrm>
            <a:off x="2060640" y="156996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4861080" y="300024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8"/>
          <a:stretch/>
        </p:blipFill>
        <p:spPr>
          <a:xfrm>
            <a:off x="4300560" y="277668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285920" y="18748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285920" y="20239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9"/>
          <a:stretch/>
        </p:blipFill>
        <p:spPr>
          <a:xfrm>
            <a:off x="650880" y="1506600"/>
            <a:ext cx="673200" cy="588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 txBox="1"/>
          <p:nvPr/>
        </p:nvSpPr>
        <p:spPr>
          <a:xfrm>
            <a:off x="642960" y="462744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078000" y="5237280"/>
            <a:ext cx="920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394320" y="4076640"/>
            <a:ext cx="150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0"/>
          <a:stretch/>
        </p:blipFill>
        <p:spPr>
          <a:xfrm>
            <a:off x="5691240" y="4095720"/>
            <a:ext cx="673200" cy="58896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4861080" y="443880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795920" y="458784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1"/>
          <a:stretch/>
        </p:blipFill>
        <p:spPr>
          <a:xfrm>
            <a:off x="4300560" y="415908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 flipV="1">
            <a:off x="3825720" y="4575240"/>
            <a:ext cx="522360" cy="52236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795920" y="57085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2"/>
          <a:stretch/>
        </p:blipFill>
        <p:spPr>
          <a:xfrm>
            <a:off x="4362480" y="3433680"/>
            <a:ext cx="673200" cy="59040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 flipV="1">
            <a:off x="2630520" y="3753000"/>
            <a:ext cx="522360" cy="522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2779560" y="3902040"/>
            <a:ext cx="447840" cy="44784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772080" y="4424400"/>
            <a:ext cx="522000" cy="523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525840" y="37162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525840" y="38671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94040" y="4916520"/>
            <a:ext cx="522360" cy="522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676680" y="502272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3"/>
          <a:stretch/>
        </p:blipFill>
        <p:spPr>
          <a:xfrm>
            <a:off x="5691240" y="5214960"/>
            <a:ext cx="673200" cy="59040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4"/>
          <a:stretch/>
        </p:blipFill>
        <p:spPr>
          <a:xfrm>
            <a:off x="3138480" y="3497400"/>
            <a:ext cx="793800" cy="46044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5"/>
          <a:stretch/>
        </p:blipFill>
        <p:spPr>
          <a:xfrm>
            <a:off x="3139920" y="476712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630520" y="4349880"/>
            <a:ext cx="522360" cy="523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56000" y="4500720"/>
            <a:ext cx="596880" cy="59688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6"/>
          <a:stretch/>
        </p:blipFill>
        <p:spPr>
          <a:xfrm>
            <a:off x="2060640" y="408456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4838760" y="55594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7"/>
          <a:stretch/>
        </p:blipFill>
        <p:spPr>
          <a:xfrm>
            <a:off x="4300560" y="5291280"/>
            <a:ext cx="793800" cy="4604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1285920" y="4389480"/>
            <a:ext cx="8222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85920" y="4538520"/>
            <a:ext cx="822240" cy="0"/>
          </a:xfrm>
          <a:prstGeom prst="line">
            <a:avLst/>
          </a:prstGeom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8"/>
          <a:stretch/>
        </p:blipFill>
        <p:spPr>
          <a:xfrm>
            <a:off x="650880" y="4021200"/>
            <a:ext cx="6732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 txBox="1"/>
          <p:nvPr/>
        </p:nvSpPr>
        <p:spPr>
          <a:xfrm>
            <a:off x="1927080" y="1365120"/>
            <a:ext cx="426708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coped addr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GMP v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GMP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uto-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DR listener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elper ma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642960" y="420840"/>
            <a:ext cx="56275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isco Deliverables (11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 txBox="1"/>
          <p:nvPr/>
        </p:nvSpPr>
        <p:spPr>
          <a:xfrm>
            <a:off x="1698480" y="1193760"/>
            <a:ext cx="47242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1.2F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M over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VMRP interoperability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u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M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cast Tag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642960" y="420840"/>
            <a:ext cx="722952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isco Deliverables—11.2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"/>
          <p:cNvSpPr txBox="1"/>
          <p:nvPr/>
        </p:nvSpPr>
        <p:spPr>
          <a:xfrm>
            <a:off x="442800" y="1058760"/>
            <a:ext cx="724068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mbon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tp://ftp.cisco.com/ipmulticas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tp://ftp.cisco.com/ip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e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-ipmulticast@cisc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BONE—open session “cisco PIM use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199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ease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ble—11.1(9) New features—11.2 and 11.2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642960" y="420840"/>
            <a:ext cx="3494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936720" y="995400"/>
            <a:ext cx="624852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FC 1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multicast group identifi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a class-D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of the group could be present anywhere i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s join and leave the grou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indicate this to the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ders and receivers are distinct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.e., a sender need not be a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rs listen to all multicast address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use multicast routing protocol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manag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42960" y="420840"/>
            <a:ext cx="593244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Multicast Servic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642960" y="449280"/>
            <a:ext cx="6694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 Multicast Service Model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50920" y="1217520"/>
            <a:ext cx="762012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P group addr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ass D address—high-order 3 bits are set (224.0.0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nge from 224.0.0.0 through 239.255.255.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ll known addresses designated by I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rved use: 224.0.0.0 through 224.0.0.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24.0.0.1—all multicast systems on sub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6032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24.0.0.2—all routers on sub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ansient addresses, assigne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nd reclaimed dynam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lobal scope: 224.0.1.0-238.255.255.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mited Scope: 239.0.0.0-239.255.255.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te-local scope: 239.253.0.0/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3280">
              <a:lnSpc>
                <a:spcPct val="90000"/>
              </a:lnSpc>
              <a:spcBef>
                <a:spcPts val="720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-local scope: 239.192.0.0/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642960" y="449280"/>
            <a:ext cx="6694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 Multicast Service Model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52640" y="1260360"/>
            <a:ext cx="602136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7040" indent="-257040">
              <a:lnSpc>
                <a:spcPct val="95000"/>
              </a:lnSpc>
              <a:spcBef>
                <a:spcPts val="1681"/>
              </a:spcBef>
              <a:buClr>
                <a:srgbClr val="cf0e30"/>
              </a:buClr>
              <a:buSzPct val="45000"/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pping IP group addresses to data-link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ulticast addr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68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FC 1112 defines OUI 0x01005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68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-order 23-bits of IP address ma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o low-order 23-bits of IEEE addres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eg. 224.2.2.2–01005e.0202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68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hernet and FDDI use this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>
              <a:lnSpc>
                <a:spcPct val="95000"/>
              </a:lnSpc>
              <a:spcBef>
                <a:spcPts val="168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ken Ring uses functional address-c000.4000.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642960" y="434880"/>
            <a:ext cx="745812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P Multicast Service Model (Cont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119640" y="196524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19640" y="3603600"/>
            <a:ext cx="1335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955800" y="1276200"/>
            <a:ext cx="3714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-to-Router Protocols (IG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955800" y="5084640"/>
            <a:ext cx="417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cast Routing Protocols (P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68680" y="2287440"/>
            <a:ext cx="0" cy="76212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040280" y="2287440"/>
            <a:ext cx="0" cy="76212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1880" y="2287440"/>
            <a:ext cx="0" cy="762120"/>
          </a:xfrm>
          <a:prstGeom prst="line">
            <a:avLst/>
          </a:prstGeom>
          <a:ln w="381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228760" y="1762200"/>
            <a:ext cx="879480" cy="7700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3600360" y="1762200"/>
            <a:ext cx="879480" cy="7700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4971960" y="1762200"/>
            <a:ext cx="879480" cy="7700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263760" y="3811680"/>
            <a:ext cx="838440" cy="838080"/>
          </a:xfrm>
          <a:prstGeom prst="line">
            <a:avLst/>
          </a:prstGeom>
          <a:ln w="381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3627360" y="4537080"/>
            <a:ext cx="825480" cy="4795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 flipV="1">
            <a:off x="3392640" y="3049560"/>
            <a:ext cx="0" cy="76212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687920" y="3049560"/>
            <a:ext cx="0" cy="762120"/>
          </a:xfrm>
          <a:prstGeom prst="line">
            <a:avLst/>
          </a:prstGeom>
          <a:ln w="381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2979720" y="3546360"/>
            <a:ext cx="2120760" cy="479520"/>
            <a:chOff x="2979720" y="3546360"/>
            <a:chExt cx="2120760" cy="479520"/>
          </a:xfrm>
        </p:grpSpPr>
        <p:pic>
          <p:nvPicPr>
            <p:cNvPr id="604" name="" descr=""/>
            <p:cNvPicPr/>
            <p:nvPr/>
          </p:nvPicPr>
          <p:blipFill>
            <a:blip r:embed="rId5"/>
            <a:stretch/>
          </p:blipFill>
          <p:spPr>
            <a:xfrm>
              <a:off x="2979720" y="3546360"/>
              <a:ext cx="8254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" descr=""/>
            <p:cNvPicPr/>
            <p:nvPr/>
          </p:nvPicPr>
          <p:blipFill>
            <a:blip r:embed="rId6"/>
            <a:stretch/>
          </p:blipFill>
          <p:spPr>
            <a:xfrm>
              <a:off x="4275000" y="3546360"/>
              <a:ext cx="82548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6" name=""/>
          <p:cNvSpPr/>
          <p:nvPr/>
        </p:nvSpPr>
        <p:spPr>
          <a:xfrm>
            <a:off x="2021040" y="3049560"/>
            <a:ext cx="4038480" cy="0"/>
          </a:xfrm>
          <a:prstGeom prst="line">
            <a:avLst/>
          </a:prstGeom>
          <a:ln w="381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a Tagliafico</dc:creator>
  <dc:description/>
  <dc:language>en-US</dc:language>
  <cp:lastModifiedBy>Dana Tagliafico</cp:lastModifiedBy>
  <cp:revision>0</cp:revision>
  <dc:subject>Networkers</dc:subject>
  <dc:title>Introduction to IP Multicast</dc:title>
</cp:coreProperties>
</file>